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6858000" cy="9907588"/>
  <p:notesSz cx="9925050" cy="14357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265C9-FB4E-496D-9287-37FEF394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A8339-2C50-4B6A-BBBA-DB279424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EECB5-E2A7-47CC-BF17-9EB72EB0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3A2D1-5D6B-4E57-98D8-BE084A32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617B9-3D06-4418-A03D-6C0BC433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8238A-3E99-4424-8B3A-83CD964D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33639-C4F5-4741-89BD-9EF7A6BF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79EDC-2DA2-4B5E-8A39-6DAFE054C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D5232-E5B2-4D4B-9A41-5FB50D884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DDEE13-8C39-44E0-8CAF-82CA08515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A5D2F-E068-4F19-B290-2E2181A0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3E53F0-D5F6-4569-9C87-E433D4E7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14135C-C341-438A-8F70-EDC4ECEA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C13F0B-65DD-4310-BBB5-73D3994A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980640-AD18-4ED9-BAFE-B6C4CE85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B36DE1-F361-430A-B125-D6D00E6B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952071-8DBC-42C0-95C2-56320C36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FCDB96-78D8-43B1-8928-E6C38FDD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4C14EF-5B65-44EB-B685-DA9E20F8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8B379E-A4B7-42B4-A3C4-87405BC0A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322E94-D8C3-47EF-8452-44331E914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4A5E36-F303-4BF7-9345-F142FFBF3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4924BD-4E9F-4632-9F80-0A748097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2262D4-74D5-44D2-A38D-FDCFF7F9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5EBC7E-88E0-491E-A9AA-059DE900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EEC267-1D0D-4971-B1DC-32C78A6B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A5A9BC-0706-4FF6-B7B9-4627F4DE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E7605D-212C-4AB3-A1B5-395B847C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208EC4-328D-4AAD-8BCE-7454C443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330719-59C3-4C72-B67B-A784BE9A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EB92-98BF-4848-AF5B-C31C4F9AE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D327CE-2682-477C-99F4-8CDAC280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391D02-29CE-4D2F-83E0-7533B9FCB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59E5CC-02DC-4CE1-9989-099EA027C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1170C-9880-4454-953D-525618D91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B13F20-866E-4AFB-9842-6823DB31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C82B4-41B1-4384-8BDC-06257C7C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FDF3A-B5D3-4000-838F-C8C6E85B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1504AB-13EB-4EF6-AE83-EC720646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49E41-D08B-4867-9906-5AE061BE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FB321-BC9B-4DD8-A603-4C48DD52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E250-E96E-4D9D-9673-ED084A6F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C59E3-23D6-4227-A141-8A61DE94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659E3-9FC5-4E93-B306-7141CDCA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31A14-2A6E-4891-A4F4-25F65C37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A3AB2-7F12-439E-B5F8-92F35B9D5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12EE1-708D-4485-80F6-31D2B84A2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96C9-8577-4A7B-95B1-E2E72F88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E7AD-C0EB-4919-9221-88E25018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1CED-4629-4838-AE71-7141235C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E9B6-863A-47FA-ABD2-6B4819CE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DD65-55D2-4D0C-A474-A7D420A7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2DE0-E853-45C8-908D-4A1FBB61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E299-3EE0-41EA-83A7-D91B0FE8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F233-0A72-4CA4-9AF7-A05039A4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4FEE-4A18-4565-A9CA-AA0F08C53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57B7-801F-4683-A5CE-4FCBBA576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368B-3251-433E-BAA4-27E6494DC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70E0-E1F9-4668-9A0C-8C265368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0C3F-4B95-4E21-B1E6-601D0D0B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5E0B-E627-4F9C-B4D3-CCFF6B1E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75418-5A92-48FC-84B6-BFAB4488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0E8B-294F-4CF2-BC03-FDD6D822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881E-15CE-4FB5-94F3-AC01CEB2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C986-478C-4C99-9A21-3FF20B50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E26B-F1D6-442D-9A9D-9D2206F4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B7A5-BB90-47B5-B038-18ADB0DF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5FE5-F6DB-44F9-A9B1-F8A1894A5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E8A3-4E99-4EF1-9850-4D9AEDE03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039E0-E1AA-4019-8158-8591FC308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83DC7-DF33-4014-ABAF-A432B21F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EF481-6F63-4968-8E3F-D9DA128E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1599F-7025-49B8-A7E6-7C669A86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C435B-1A3B-4BAD-AE8B-5722C757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A7532-721E-483D-B0BA-1F8E604C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63FCC-C336-42BF-BBED-D8D68F20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0A1BB-0DCE-4020-82D9-CCA7375C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66293-F36B-4FE4-A7A0-5845F047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80FF4-7277-4C19-93E7-0DF74216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F20E2-67BB-43C8-BA7E-49D5AAEC0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39EC2-215B-440E-9AEE-327B247BC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32375-50C6-453D-8977-A48A77A21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1FE5E-862D-4D5B-A170-FE883324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820C0-DC58-42CF-97C3-A18167C0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96E72-6101-435C-9B81-C997F3EA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74AC6-1FDA-4CA8-A417-805C07EB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A2EE4-98F2-482D-9774-B4E3AE0D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1F173-1B6B-4501-96F0-B0D30F4A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2CF13-63D2-4A63-B32C-DCBDCE51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19CAE-3A7A-45A9-BE7B-2F1B1E22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7F50D-BB33-4972-AC3E-6664C513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47B11-467D-41EE-9CAB-251CA7A31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83262-71DD-4DFF-B171-A715C07FC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B0F99-9A27-4414-93CB-67A808115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B443A-D7AF-4FFF-8BCC-D36400DA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9FBD4-9BED-43CB-86CD-18CDE014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998BD-B54D-4083-8C2B-E8ED4577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9A350-55BB-4677-A704-E6532824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90DC0-9D65-4369-A24F-50F6949C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9F3CC-0CC1-453B-9BBB-E587E1D1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DFF5B-72F1-4749-AA54-858640CD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95021-7BC3-470C-B5F5-5D93891A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B09A3-B066-492E-9DF1-DC42FEB1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18085-374A-4E5B-BA2C-C24A24DD8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BCDE1-8E01-4CAC-8317-2A14CE988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5AA1B-8F5D-4FDF-A9AA-AB2A7B6B0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36A5C-1ABD-4D1F-A8A3-F74D60EF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72F1C-AFE6-4317-B674-BD5D4A06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B46BB-BA71-455F-98C5-0E6EEC20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1C45D-9A92-4B00-9EF9-5FC0B5D9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5EB9B-109F-4614-A906-E9F11E8A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27F90-691A-4D27-B03E-402A57DF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C6892-8FE4-4FFE-A785-93ED7842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EB838-FA2C-471B-BB4B-B67FCA7E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18F07-87EF-465E-BF74-8249D542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CF2C7-F70C-4E63-9083-4B8CBF96F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3FD27-FD71-4D5B-A46A-833305A1B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CAA9B-EC9A-4EF3-B4DB-B41092826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E4542-4622-4001-918B-461B4C60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114A2-8C40-4305-A7BF-AF9C72A5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0D015-3735-4F52-BD28-EF923A60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6D48B-35BA-4C87-9061-8A7861B8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D3B44-8ADD-404B-9801-ACB7CAC7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6514A-4568-431E-B247-FF7DD1DC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5AE2C-4369-403E-A62E-00F2EF73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232F1-B5F5-43F5-94FC-F001AE16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47A77-4B7D-4771-85BF-765B6B86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A2787-4912-46D6-A3A4-5A10D7C0D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CC82F-FB49-4B0B-86ED-D0836BD08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7E588-2741-4B3B-965D-3D2F7DD80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2567D-53B5-4B5E-8FB4-9C33411F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7B4D7-4D2F-4993-A828-C6C754A0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2" descr=""/>
          <p:cNvPicPr/>
          <p:nvPr/>
        </p:nvPicPr>
        <p:blipFill>
          <a:blip r:embed="rId2"/>
          <a:stretch/>
        </p:blipFill>
        <p:spPr>
          <a:xfrm>
            <a:off x="0" y="9021600"/>
            <a:ext cx="1308240" cy="884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"/>
          <p:cNvPicPr/>
          <p:nvPr/>
        </p:nvPicPr>
        <p:blipFill>
          <a:blip r:embed="rId2"/>
          <a:stretch/>
        </p:blipFill>
        <p:spPr>
          <a:xfrm>
            <a:off x="0" y="9021600"/>
            <a:ext cx="1308240" cy="884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5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6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27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C546-7119-4E62-8469-529FCD9B9E1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2" descr=""/>
          <p:cNvPicPr/>
          <p:nvPr/>
        </p:nvPicPr>
        <p:blipFill>
          <a:blip r:embed="rId2"/>
          <a:stretch/>
        </p:blipFill>
        <p:spPr>
          <a:xfrm>
            <a:off x="0" y="9021600"/>
            <a:ext cx="1308240" cy="88452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8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9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0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D8C6-5A58-421A-B475-0133F78D1CE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2" descr=""/>
          <p:cNvPicPr/>
          <p:nvPr/>
        </p:nvPicPr>
        <p:blipFill>
          <a:blip r:embed="rId2"/>
          <a:stretch/>
        </p:blipFill>
        <p:spPr>
          <a:xfrm>
            <a:off x="0" y="9021600"/>
            <a:ext cx="1308240" cy="88452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5ADC-3FDB-4F34-A8AC-E4AE2ECF51D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"/>
          <p:cNvPicPr/>
          <p:nvPr/>
        </p:nvPicPr>
        <p:blipFill>
          <a:blip r:embed="rId2"/>
          <a:stretch/>
        </p:blipFill>
        <p:spPr>
          <a:xfrm>
            <a:off x="0" y="9021600"/>
            <a:ext cx="1308240" cy="8845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30B3-B9FA-4783-ABAD-B7AF408AED5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0" y="9021600"/>
            <a:ext cx="1308240" cy="8845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26A8-8FC5-4560-91F7-FDA8BF998BB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0" y="9021600"/>
            <a:ext cx="1308240" cy="8845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17E6-1B66-44AF-B074-C93D8DB326D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2"/>
          <a:stretch/>
        </p:blipFill>
        <p:spPr>
          <a:xfrm>
            <a:off x="0" y="9021600"/>
            <a:ext cx="1308240" cy="8845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0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1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2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A4BE-62BE-4B9C-923E-0446C8D2A31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2"/>
          <a:stretch/>
        </p:blipFill>
        <p:spPr>
          <a:xfrm>
            <a:off x="0" y="9021600"/>
            <a:ext cx="1308240" cy="88452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09AB-5DDD-43CF-B706-00FF852A9C1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0" y="9021600"/>
            <a:ext cx="1308240" cy="8845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5F65-4C94-47FB-A1C9-7D62AA7BA14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"/>
          <p:cNvPicPr/>
          <p:nvPr/>
        </p:nvPicPr>
        <p:blipFill>
          <a:blip r:embed="rId2"/>
          <a:stretch/>
        </p:blipFill>
        <p:spPr>
          <a:xfrm>
            <a:off x="0" y="9021600"/>
            <a:ext cx="1308240" cy="8845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"/>
          <p:cNvPicPr/>
          <p:nvPr/>
        </p:nvPicPr>
        <p:blipFill>
          <a:blip r:embed="rId3"/>
          <a:stretch/>
        </p:blipFill>
        <p:spPr>
          <a:xfrm>
            <a:off x="5049720" y="9310680"/>
            <a:ext cx="1694160" cy="37476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9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0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1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048F-F82D-49D8-A36A-3E01266154F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"/>
          <p:cNvPicPr/>
          <p:nvPr/>
        </p:nvPicPr>
        <p:blipFill>
          <a:blip r:embed="rId2"/>
          <a:stretch/>
        </p:blipFill>
        <p:spPr>
          <a:xfrm>
            <a:off x="0" y="9021600"/>
            <a:ext cx="1308240" cy="8845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" descr=""/>
          <p:cNvPicPr/>
          <p:nvPr/>
        </p:nvPicPr>
        <p:blipFill>
          <a:blip r:embed="rId3"/>
          <a:stretch/>
        </p:blipFill>
        <p:spPr>
          <a:xfrm>
            <a:off x="5049720" y="9310680"/>
            <a:ext cx="1694160" cy="37476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2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3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4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F02F-68FA-4FA1-8595-F4BA5C862AC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Group 43"/>
          <p:cNvGrpSpPr/>
          <p:nvPr/>
        </p:nvGrpSpPr>
        <p:grpSpPr>
          <a:xfrm>
            <a:off x="122040" y="824040"/>
            <a:ext cx="6575760" cy="6575400"/>
            <a:chOff x="122040" y="824040"/>
            <a:chExt cx="6575760" cy="6575400"/>
          </a:xfrm>
        </p:grpSpPr>
        <p:sp>
          <p:nvSpPr>
            <p:cNvPr id="504" name="Rectangle 3"/>
            <p:cNvSpPr/>
            <p:nvPr/>
          </p:nvSpPr>
          <p:spPr>
            <a:xfrm>
              <a:off x="122400" y="824040"/>
              <a:ext cx="6575400" cy="6575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6"/>
            <p:cNvSpPr/>
            <p:nvPr/>
          </p:nvSpPr>
          <p:spPr>
            <a:xfrm>
              <a:off x="3410280" y="824040"/>
              <a:ext cx="0" cy="6575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7"/>
            <p:cNvSpPr/>
            <p:nvPr/>
          </p:nvSpPr>
          <p:spPr>
            <a:xfrm>
              <a:off x="122400" y="4111560"/>
              <a:ext cx="6575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8"/>
            <p:cNvSpPr/>
            <p:nvPr/>
          </p:nvSpPr>
          <p:spPr>
            <a:xfrm flipV="1">
              <a:off x="122400" y="824040"/>
              <a:ext cx="3287880" cy="3287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Line 9"/>
            <p:cNvSpPr/>
            <p:nvPr/>
          </p:nvSpPr>
          <p:spPr>
            <a:xfrm flipH="1" flipV="1">
              <a:off x="3410280" y="824040"/>
              <a:ext cx="3287520" cy="3287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Line 10"/>
            <p:cNvSpPr/>
            <p:nvPr/>
          </p:nvSpPr>
          <p:spPr>
            <a:xfrm flipH="1" flipV="1">
              <a:off x="122040" y="4111200"/>
              <a:ext cx="3287880" cy="3287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11"/>
            <p:cNvSpPr/>
            <p:nvPr/>
          </p:nvSpPr>
          <p:spPr>
            <a:xfrm flipH="1">
              <a:off x="3410280" y="4111560"/>
              <a:ext cx="3287520" cy="3287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12"/>
            <p:cNvSpPr/>
            <p:nvPr/>
          </p:nvSpPr>
          <p:spPr>
            <a:xfrm flipV="1">
              <a:off x="1766160" y="2469600"/>
              <a:ext cx="3286080" cy="3286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14"/>
            <p:cNvSpPr/>
            <p:nvPr/>
          </p:nvSpPr>
          <p:spPr>
            <a:xfrm flipH="1" flipV="1">
              <a:off x="1766160" y="2467800"/>
              <a:ext cx="3287520" cy="3287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17"/>
            <p:cNvSpPr/>
            <p:nvPr/>
          </p:nvSpPr>
          <p:spPr>
            <a:xfrm flipV="1">
              <a:off x="1766160" y="824040"/>
              <a:ext cx="0" cy="1643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18"/>
            <p:cNvSpPr/>
            <p:nvPr/>
          </p:nvSpPr>
          <p:spPr>
            <a:xfrm flipH="1">
              <a:off x="122400" y="2467800"/>
              <a:ext cx="1643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21"/>
            <p:cNvSpPr/>
            <p:nvPr/>
          </p:nvSpPr>
          <p:spPr>
            <a:xfrm>
              <a:off x="5052240" y="824040"/>
              <a:ext cx="1440" cy="1643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22"/>
            <p:cNvSpPr/>
            <p:nvPr/>
          </p:nvSpPr>
          <p:spPr>
            <a:xfrm flipV="1">
              <a:off x="1766160" y="5755320"/>
              <a:ext cx="0" cy="1628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23"/>
            <p:cNvSpPr/>
            <p:nvPr/>
          </p:nvSpPr>
          <p:spPr>
            <a:xfrm flipH="1">
              <a:off x="122400" y="5755680"/>
              <a:ext cx="1643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26"/>
            <p:cNvSpPr/>
            <p:nvPr/>
          </p:nvSpPr>
          <p:spPr>
            <a:xfrm>
              <a:off x="5054040" y="5755680"/>
              <a:ext cx="0" cy="1643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Line 27"/>
            <p:cNvSpPr/>
            <p:nvPr/>
          </p:nvSpPr>
          <p:spPr>
            <a:xfrm>
              <a:off x="5054040" y="5755680"/>
              <a:ext cx="1643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Line 28"/>
            <p:cNvSpPr/>
            <p:nvPr/>
          </p:nvSpPr>
          <p:spPr>
            <a:xfrm>
              <a:off x="5054040" y="2467800"/>
              <a:ext cx="1643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29"/>
            <p:cNvSpPr/>
            <p:nvPr/>
          </p:nvSpPr>
          <p:spPr>
            <a:xfrm rot="10800000">
              <a:off x="1018800" y="4602600"/>
              <a:ext cx="149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b050"/>
                  </a:solidFill>
                  <a:latin typeface="Arial"/>
                </a:rPr>
                <a:t>Large-scale Fi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Text Box 30"/>
            <p:cNvSpPr/>
            <p:nvPr/>
          </p:nvSpPr>
          <p:spPr>
            <a:xfrm>
              <a:off x="978120" y="3421440"/>
              <a:ext cx="149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b050"/>
                  </a:solidFill>
                  <a:latin typeface="Arial"/>
                </a:rPr>
                <a:t>Floo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Text Box 31"/>
            <p:cNvSpPr/>
            <p:nvPr/>
          </p:nvSpPr>
          <p:spPr>
            <a:xfrm rot="5400000">
              <a:off x="3149640" y="5616360"/>
              <a:ext cx="149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b050"/>
                  </a:solidFill>
                  <a:latin typeface="Arial"/>
                </a:rPr>
                <a:t>Floo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Text Box 32"/>
            <p:cNvSpPr/>
            <p:nvPr/>
          </p:nvSpPr>
          <p:spPr>
            <a:xfrm rot="16200000">
              <a:off x="2180520" y="5616360"/>
              <a:ext cx="149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b050"/>
                  </a:solidFill>
                  <a:latin typeface="Arial"/>
                </a:rPr>
                <a:t>Large-scale fi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Text Box 33"/>
            <p:cNvSpPr/>
            <p:nvPr/>
          </p:nvSpPr>
          <p:spPr>
            <a:xfrm rot="5400000">
              <a:off x="3153600" y="2468880"/>
              <a:ext cx="1494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b050"/>
                  </a:solidFill>
                  <a:latin typeface="Arial"/>
                </a:rPr>
                <a:t>School shooting or violent protes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 Box 34"/>
            <p:cNvSpPr/>
            <p:nvPr/>
          </p:nvSpPr>
          <p:spPr>
            <a:xfrm rot="16200000">
              <a:off x="2119680" y="2309040"/>
              <a:ext cx="149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b050"/>
                  </a:solidFill>
                  <a:latin typeface="Arial"/>
                </a:rPr>
                <a:t>Train cras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Text Box 35"/>
            <p:cNvSpPr/>
            <p:nvPr/>
          </p:nvSpPr>
          <p:spPr>
            <a:xfrm rot="10800000">
              <a:off x="4305600" y="4455360"/>
              <a:ext cx="149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b050"/>
                  </a:solidFill>
                  <a:latin typeface="Arial"/>
                </a:rPr>
                <a:t>Train cras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Text Box 36"/>
            <p:cNvSpPr/>
            <p:nvPr/>
          </p:nvSpPr>
          <p:spPr>
            <a:xfrm>
              <a:off x="4305600" y="3185280"/>
              <a:ext cx="1494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b050"/>
                  </a:solidFill>
                  <a:latin typeface="Arial"/>
                </a:rPr>
                <a:t>School shooting or violent protes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Text Box 37"/>
            <p:cNvSpPr/>
            <p:nvPr/>
          </p:nvSpPr>
          <p:spPr>
            <a:xfrm rot="16200000">
              <a:off x="2090160" y="108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b05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Text Box 38"/>
            <p:cNvSpPr/>
            <p:nvPr/>
          </p:nvSpPr>
          <p:spPr>
            <a:xfrm rot="5400000">
              <a:off x="4413960" y="108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b05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Text Box 39"/>
            <p:cNvSpPr/>
            <p:nvPr/>
          </p:nvSpPr>
          <p:spPr>
            <a:xfrm>
              <a:off x="421200" y="2733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b05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Text Box 40"/>
            <p:cNvSpPr/>
            <p:nvPr/>
          </p:nvSpPr>
          <p:spPr>
            <a:xfrm>
              <a:off x="6046560" y="2733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b05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Text Box 41"/>
            <p:cNvSpPr/>
            <p:nvPr/>
          </p:nvSpPr>
          <p:spPr>
            <a:xfrm rot="10800000">
              <a:off x="444600" y="4999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b05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Text Box 42"/>
            <p:cNvSpPr/>
            <p:nvPr/>
          </p:nvSpPr>
          <p:spPr>
            <a:xfrm rot="10800000">
              <a:off x="6064560" y="4999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b05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Text Box 43"/>
            <p:cNvSpPr/>
            <p:nvPr/>
          </p:nvSpPr>
          <p:spPr>
            <a:xfrm rot="16200000">
              <a:off x="2127600" y="6673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b05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Text Box 44"/>
            <p:cNvSpPr/>
            <p:nvPr/>
          </p:nvSpPr>
          <p:spPr>
            <a:xfrm rot="5400000">
              <a:off x="4403520" y="6673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b05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Oval 46"/>
            <p:cNvSpPr/>
            <p:nvPr/>
          </p:nvSpPr>
          <p:spPr>
            <a:xfrm>
              <a:off x="5468400" y="6168240"/>
              <a:ext cx="823680" cy="82368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Oval 48"/>
            <p:cNvSpPr/>
            <p:nvPr/>
          </p:nvSpPr>
          <p:spPr>
            <a:xfrm>
              <a:off x="5468400" y="1216080"/>
              <a:ext cx="823680" cy="82368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Oval 49"/>
            <p:cNvSpPr/>
            <p:nvPr/>
          </p:nvSpPr>
          <p:spPr>
            <a:xfrm>
              <a:off x="523080" y="6168240"/>
              <a:ext cx="823680" cy="82368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Oval 50"/>
            <p:cNvSpPr/>
            <p:nvPr/>
          </p:nvSpPr>
          <p:spPr>
            <a:xfrm>
              <a:off x="523080" y="1216080"/>
              <a:ext cx="823680" cy="82368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" name="Text Box 51"/>
          <p:cNvSpPr/>
          <p:nvPr/>
        </p:nvSpPr>
        <p:spPr>
          <a:xfrm>
            <a:off x="0" y="11916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cident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53"/>
          <p:cNvSpPr/>
          <p:nvPr/>
        </p:nvSpPr>
        <p:spPr>
          <a:xfrm>
            <a:off x="525600" y="7481880"/>
            <a:ext cx="6095880" cy="18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rint and cut round outside of fortune te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Fold in half and in half aga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Open out, turn over so top is blank and fold each corner into the midd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urn over and repe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urn over so you can see the pi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lide your thumb and your finger behind 2 of the pictures and press together so they bend round and tou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urn over and repeat with the thumb and finger of the other hand for the other two pi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ll the pictures should now be at the front with centres touching and you are ready to use your fortune teller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Box 1"/>
          <p:cNvSpPr/>
          <p:nvPr/>
        </p:nvSpPr>
        <p:spPr>
          <a:xfrm rot="3600000">
            <a:off x="686520" y="6399720"/>
            <a:ext cx="4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Box 43"/>
          <p:cNvSpPr/>
          <p:nvPr/>
        </p:nvSpPr>
        <p:spPr>
          <a:xfrm rot="8541600">
            <a:off x="582480" y="1439640"/>
            <a:ext cx="4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Box 44"/>
          <p:cNvSpPr/>
          <p:nvPr/>
        </p:nvSpPr>
        <p:spPr>
          <a:xfrm rot="13651800">
            <a:off x="5566320" y="1352160"/>
            <a:ext cx="4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Box 45"/>
          <p:cNvSpPr/>
          <p:nvPr/>
        </p:nvSpPr>
        <p:spPr>
          <a:xfrm rot="19561800">
            <a:off x="5643000" y="6307200"/>
            <a:ext cx="4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Group 43"/>
          <p:cNvGrpSpPr/>
          <p:nvPr/>
        </p:nvGrpSpPr>
        <p:grpSpPr>
          <a:xfrm>
            <a:off x="122040" y="824040"/>
            <a:ext cx="6575760" cy="6575400"/>
            <a:chOff x="122040" y="824040"/>
            <a:chExt cx="6575760" cy="6575400"/>
          </a:xfrm>
        </p:grpSpPr>
        <p:sp>
          <p:nvSpPr>
            <p:cNvPr id="548" name="Rectangle 3"/>
            <p:cNvSpPr/>
            <p:nvPr/>
          </p:nvSpPr>
          <p:spPr>
            <a:xfrm>
              <a:off x="122400" y="824040"/>
              <a:ext cx="6575400" cy="6575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6"/>
            <p:cNvSpPr/>
            <p:nvPr/>
          </p:nvSpPr>
          <p:spPr>
            <a:xfrm>
              <a:off x="3410280" y="824040"/>
              <a:ext cx="0" cy="6575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7"/>
            <p:cNvSpPr/>
            <p:nvPr/>
          </p:nvSpPr>
          <p:spPr>
            <a:xfrm>
              <a:off x="122400" y="4111560"/>
              <a:ext cx="6575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8"/>
            <p:cNvSpPr/>
            <p:nvPr/>
          </p:nvSpPr>
          <p:spPr>
            <a:xfrm flipV="1">
              <a:off x="122400" y="824040"/>
              <a:ext cx="3287880" cy="3287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Line 9"/>
            <p:cNvSpPr/>
            <p:nvPr/>
          </p:nvSpPr>
          <p:spPr>
            <a:xfrm flipH="1" flipV="1">
              <a:off x="3410280" y="824040"/>
              <a:ext cx="3287520" cy="3287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10"/>
            <p:cNvSpPr/>
            <p:nvPr/>
          </p:nvSpPr>
          <p:spPr>
            <a:xfrm flipH="1" flipV="1">
              <a:off x="122040" y="4111200"/>
              <a:ext cx="3287880" cy="3287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11"/>
            <p:cNvSpPr/>
            <p:nvPr/>
          </p:nvSpPr>
          <p:spPr>
            <a:xfrm flipH="1">
              <a:off x="3410280" y="4111560"/>
              <a:ext cx="3287520" cy="3287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12"/>
            <p:cNvSpPr/>
            <p:nvPr/>
          </p:nvSpPr>
          <p:spPr>
            <a:xfrm flipV="1">
              <a:off x="1766160" y="2469600"/>
              <a:ext cx="3286080" cy="3286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14"/>
            <p:cNvSpPr/>
            <p:nvPr/>
          </p:nvSpPr>
          <p:spPr>
            <a:xfrm flipH="1" flipV="1">
              <a:off x="1766160" y="2467800"/>
              <a:ext cx="3287520" cy="3287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17"/>
            <p:cNvSpPr/>
            <p:nvPr/>
          </p:nvSpPr>
          <p:spPr>
            <a:xfrm flipV="1">
              <a:off x="1766160" y="824040"/>
              <a:ext cx="0" cy="1643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18"/>
            <p:cNvSpPr/>
            <p:nvPr/>
          </p:nvSpPr>
          <p:spPr>
            <a:xfrm flipH="1">
              <a:off x="122400" y="2467800"/>
              <a:ext cx="1643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21"/>
            <p:cNvSpPr/>
            <p:nvPr/>
          </p:nvSpPr>
          <p:spPr>
            <a:xfrm>
              <a:off x="5052240" y="824040"/>
              <a:ext cx="1440" cy="1643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22"/>
            <p:cNvSpPr/>
            <p:nvPr/>
          </p:nvSpPr>
          <p:spPr>
            <a:xfrm flipV="1">
              <a:off x="1766160" y="5755320"/>
              <a:ext cx="0" cy="1628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23"/>
            <p:cNvSpPr/>
            <p:nvPr/>
          </p:nvSpPr>
          <p:spPr>
            <a:xfrm flipH="1">
              <a:off x="122400" y="5755680"/>
              <a:ext cx="1643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26"/>
            <p:cNvSpPr/>
            <p:nvPr/>
          </p:nvSpPr>
          <p:spPr>
            <a:xfrm>
              <a:off x="5054040" y="5755680"/>
              <a:ext cx="0" cy="1643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27"/>
            <p:cNvSpPr/>
            <p:nvPr/>
          </p:nvSpPr>
          <p:spPr>
            <a:xfrm>
              <a:off x="5054040" y="5755680"/>
              <a:ext cx="1643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Line 28"/>
            <p:cNvSpPr/>
            <p:nvPr/>
          </p:nvSpPr>
          <p:spPr>
            <a:xfrm>
              <a:off x="5054040" y="2467800"/>
              <a:ext cx="1643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Text Box 29"/>
            <p:cNvSpPr/>
            <p:nvPr/>
          </p:nvSpPr>
          <p:spPr>
            <a:xfrm rot="10800000">
              <a:off x="1082160" y="4420800"/>
              <a:ext cx="1494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c000"/>
                  </a:solidFill>
                  <a:latin typeface="Arial"/>
                </a:rPr>
                <a:t>City, some injuries, few death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30"/>
            <p:cNvSpPr/>
            <p:nvPr/>
          </p:nvSpPr>
          <p:spPr>
            <a:xfrm>
              <a:off x="989280" y="3276720"/>
              <a:ext cx="149472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c000"/>
                  </a:solidFill>
                  <a:latin typeface="Arial"/>
                </a:rPr>
                <a:t>Rural area, many injuries, several death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Text Box 31"/>
            <p:cNvSpPr/>
            <p:nvPr/>
          </p:nvSpPr>
          <p:spPr>
            <a:xfrm rot="5400000">
              <a:off x="3151800" y="5433840"/>
              <a:ext cx="1494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c000"/>
                  </a:solidFill>
                  <a:latin typeface="Arial"/>
                </a:rPr>
                <a:t>Rural area, some injuries a few death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Text Box 32"/>
            <p:cNvSpPr/>
            <p:nvPr/>
          </p:nvSpPr>
          <p:spPr>
            <a:xfrm rot="16200000">
              <a:off x="2178360" y="5433840"/>
              <a:ext cx="1494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c000"/>
                  </a:solidFill>
                  <a:latin typeface="Arial"/>
                </a:rPr>
                <a:t>City, no deaths, much structural da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Text Box 33"/>
            <p:cNvSpPr/>
            <p:nvPr/>
          </p:nvSpPr>
          <p:spPr>
            <a:xfrm rot="5400000">
              <a:off x="3083400" y="2175120"/>
              <a:ext cx="1494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c000"/>
                  </a:solidFill>
                  <a:latin typeface="Arial"/>
                </a:rPr>
                <a:t>City,, many injuries a few death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Text Box 34"/>
            <p:cNvSpPr/>
            <p:nvPr/>
          </p:nvSpPr>
          <p:spPr>
            <a:xfrm rot="16200000">
              <a:off x="2194200" y="2145960"/>
              <a:ext cx="1494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c000"/>
                  </a:solidFill>
                  <a:latin typeface="Arial"/>
                </a:rPr>
                <a:t>Rural area, no deaths, much structural da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35"/>
            <p:cNvSpPr/>
            <p:nvPr/>
          </p:nvSpPr>
          <p:spPr>
            <a:xfrm rot="10800000">
              <a:off x="4305600" y="4185000"/>
              <a:ext cx="1494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c000"/>
                  </a:solidFill>
                  <a:latin typeface="Arial"/>
                </a:rPr>
                <a:t>Rural area,some injury and structural damage no death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36"/>
            <p:cNvSpPr/>
            <p:nvPr/>
          </p:nvSpPr>
          <p:spPr>
            <a:xfrm>
              <a:off x="4305600" y="3185280"/>
              <a:ext cx="1494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c000"/>
                  </a:solidFill>
                  <a:latin typeface="Arial"/>
                </a:rPr>
                <a:t>City, some injuries, a few deaths, structural da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37"/>
            <p:cNvSpPr/>
            <p:nvPr/>
          </p:nvSpPr>
          <p:spPr>
            <a:xfrm rot="16200000">
              <a:off x="2090160" y="108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c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Text Box 38"/>
            <p:cNvSpPr/>
            <p:nvPr/>
          </p:nvSpPr>
          <p:spPr>
            <a:xfrm rot="5400000">
              <a:off x="4413960" y="108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c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Text Box 39"/>
            <p:cNvSpPr/>
            <p:nvPr/>
          </p:nvSpPr>
          <p:spPr>
            <a:xfrm>
              <a:off x="421200" y="2733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c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Text Box 40"/>
            <p:cNvSpPr/>
            <p:nvPr/>
          </p:nvSpPr>
          <p:spPr>
            <a:xfrm>
              <a:off x="6046560" y="2733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c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Text Box 41"/>
            <p:cNvSpPr/>
            <p:nvPr/>
          </p:nvSpPr>
          <p:spPr>
            <a:xfrm rot="10800000">
              <a:off x="444600" y="4999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c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Text Box 42"/>
            <p:cNvSpPr/>
            <p:nvPr/>
          </p:nvSpPr>
          <p:spPr>
            <a:xfrm rot="10800000">
              <a:off x="6064560" y="4999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c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Text Box 43"/>
            <p:cNvSpPr/>
            <p:nvPr/>
          </p:nvSpPr>
          <p:spPr>
            <a:xfrm rot="16200000">
              <a:off x="2127600" y="6673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c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Text Box 44"/>
            <p:cNvSpPr/>
            <p:nvPr/>
          </p:nvSpPr>
          <p:spPr>
            <a:xfrm rot="5400000">
              <a:off x="4403520" y="6673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c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Oval 46"/>
            <p:cNvSpPr/>
            <p:nvPr/>
          </p:nvSpPr>
          <p:spPr>
            <a:xfrm>
              <a:off x="5468400" y="6168240"/>
              <a:ext cx="823680" cy="8236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Oval 48"/>
            <p:cNvSpPr/>
            <p:nvPr/>
          </p:nvSpPr>
          <p:spPr>
            <a:xfrm>
              <a:off x="5468400" y="1216080"/>
              <a:ext cx="823680" cy="8236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Oval 49"/>
            <p:cNvSpPr/>
            <p:nvPr/>
          </p:nvSpPr>
          <p:spPr>
            <a:xfrm>
              <a:off x="523080" y="6168240"/>
              <a:ext cx="823680" cy="8236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Oval 50"/>
            <p:cNvSpPr/>
            <p:nvPr/>
          </p:nvSpPr>
          <p:spPr>
            <a:xfrm>
              <a:off x="523080" y="1216080"/>
              <a:ext cx="823680" cy="8236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5" name="Text Box 51"/>
          <p:cNvSpPr/>
          <p:nvPr/>
        </p:nvSpPr>
        <p:spPr>
          <a:xfrm>
            <a:off x="0" y="11916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verity of 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53"/>
          <p:cNvSpPr/>
          <p:nvPr/>
        </p:nvSpPr>
        <p:spPr>
          <a:xfrm>
            <a:off x="525600" y="7481880"/>
            <a:ext cx="6095880" cy="18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rint and cut round outside of fortune te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Fold in half and in half aga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Open out, turn over so top is blank and fold each corner into the midd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urn over and repe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urn over so you can see the pi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lide your thumb and your finger behind 2 of the pictures and press together so they bend round and tou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urn over and repeat with the thumb and finger of the other hand for the other two pi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ll the pictures should now be at the front with centres touching and you are ready to use your fortune teller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Box 1"/>
          <p:cNvSpPr/>
          <p:nvPr/>
        </p:nvSpPr>
        <p:spPr>
          <a:xfrm rot="3600000">
            <a:off x="686520" y="6399720"/>
            <a:ext cx="4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Box 43"/>
          <p:cNvSpPr/>
          <p:nvPr/>
        </p:nvSpPr>
        <p:spPr>
          <a:xfrm rot="8541600">
            <a:off x="582480" y="1439640"/>
            <a:ext cx="4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Box 44"/>
          <p:cNvSpPr/>
          <p:nvPr/>
        </p:nvSpPr>
        <p:spPr>
          <a:xfrm rot="13651800">
            <a:off x="5566320" y="1352160"/>
            <a:ext cx="4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Box 45"/>
          <p:cNvSpPr/>
          <p:nvPr/>
        </p:nvSpPr>
        <p:spPr>
          <a:xfrm rot="19561800">
            <a:off x="5643000" y="6307200"/>
            <a:ext cx="4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43"/>
          <p:cNvGrpSpPr/>
          <p:nvPr/>
        </p:nvGrpSpPr>
        <p:grpSpPr>
          <a:xfrm>
            <a:off x="122040" y="824040"/>
            <a:ext cx="6575760" cy="6575400"/>
            <a:chOff x="122040" y="824040"/>
            <a:chExt cx="6575760" cy="6575400"/>
          </a:xfrm>
        </p:grpSpPr>
        <p:sp>
          <p:nvSpPr>
            <p:cNvPr id="592" name="Rectangle 3"/>
            <p:cNvSpPr/>
            <p:nvPr/>
          </p:nvSpPr>
          <p:spPr>
            <a:xfrm>
              <a:off x="122400" y="824040"/>
              <a:ext cx="6575400" cy="6575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Line 6"/>
            <p:cNvSpPr/>
            <p:nvPr/>
          </p:nvSpPr>
          <p:spPr>
            <a:xfrm>
              <a:off x="3410280" y="824040"/>
              <a:ext cx="0" cy="6575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Line 7"/>
            <p:cNvSpPr/>
            <p:nvPr/>
          </p:nvSpPr>
          <p:spPr>
            <a:xfrm>
              <a:off x="122400" y="4111560"/>
              <a:ext cx="6575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Line 8"/>
            <p:cNvSpPr/>
            <p:nvPr/>
          </p:nvSpPr>
          <p:spPr>
            <a:xfrm flipV="1">
              <a:off x="122400" y="824040"/>
              <a:ext cx="3287880" cy="3287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Line 9"/>
            <p:cNvSpPr/>
            <p:nvPr/>
          </p:nvSpPr>
          <p:spPr>
            <a:xfrm flipH="1" flipV="1">
              <a:off x="3410280" y="824040"/>
              <a:ext cx="3287520" cy="3287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Line 10"/>
            <p:cNvSpPr/>
            <p:nvPr/>
          </p:nvSpPr>
          <p:spPr>
            <a:xfrm flipH="1" flipV="1">
              <a:off x="122040" y="4111200"/>
              <a:ext cx="3287880" cy="3287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Line 11"/>
            <p:cNvSpPr/>
            <p:nvPr/>
          </p:nvSpPr>
          <p:spPr>
            <a:xfrm flipH="1">
              <a:off x="3410280" y="4111560"/>
              <a:ext cx="3287520" cy="3287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12"/>
            <p:cNvSpPr/>
            <p:nvPr/>
          </p:nvSpPr>
          <p:spPr>
            <a:xfrm flipV="1">
              <a:off x="1766160" y="2469600"/>
              <a:ext cx="3286080" cy="3286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14"/>
            <p:cNvSpPr/>
            <p:nvPr/>
          </p:nvSpPr>
          <p:spPr>
            <a:xfrm flipH="1" flipV="1">
              <a:off x="1766160" y="2467800"/>
              <a:ext cx="3287520" cy="3287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Line 17"/>
            <p:cNvSpPr/>
            <p:nvPr/>
          </p:nvSpPr>
          <p:spPr>
            <a:xfrm flipV="1">
              <a:off x="1766160" y="824040"/>
              <a:ext cx="0" cy="1643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Line 18"/>
            <p:cNvSpPr/>
            <p:nvPr/>
          </p:nvSpPr>
          <p:spPr>
            <a:xfrm flipH="1">
              <a:off x="122400" y="2467800"/>
              <a:ext cx="1643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Line 21"/>
            <p:cNvSpPr/>
            <p:nvPr/>
          </p:nvSpPr>
          <p:spPr>
            <a:xfrm>
              <a:off x="5052240" y="824040"/>
              <a:ext cx="1440" cy="1643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Line 22"/>
            <p:cNvSpPr/>
            <p:nvPr/>
          </p:nvSpPr>
          <p:spPr>
            <a:xfrm flipV="1">
              <a:off x="1766160" y="5755320"/>
              <a:ext cx="0" cy="1628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23"/>
            <p:cNvSpPr/>
            <p:nvPr/>
          </p:nvSpPr>
          <p:spPr>
            <a:xfrm flipH="1">
              <a:off x="122400" y="5755680"/>
              <a:ext cx="1643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Line 26"/>
            <p:cNvSpPr/>
            <p:nvPr/>
          </p:nvSpPr>
          <p:spPr>
            <a:xfrm>
              <a:off x="5054040" y="5755680"/>
              <a:ext cx="0" cy="1643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27"/>
            <p:cNvSpPr/>
            <p:nvPr/>
          </p:nvSpPr>
          <p:spPr>
            <a:xfrm>
              <a:off x="5054040" y="5755680"/>
              <a:ext cx="1643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28"/>
            <p:cNvSpPr/>
            <p:nvPr/>
          </p:nvSpPr>
          <p:spPr>
            <a:xfrm>
              <a:off x="5054040" y="2467800"/>
              <a:ext cx="1643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Text Box 29"/>
            <p:cNvSpPr/>
            <p:nvPr/>
          </p:nvSpPr>
          <p:spPr>
            <a:xfrm rot="5400000">
              <a:off x="3127320" y="2330280"/>
              <a:ext cx="149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c00000"/>
                  </a:solidFill>
                  <a:latin typeface="Arial"/>
                </a:rPr>
                <a:t>Pleasant weath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Text Box 30"/>
            <p:cNvSpPr/>
            <p:nvPr/>
          </p:nvSpPr>
          <p:spPr>
            <a:xfrm rot="16200000">
              <a:off x="2189160" y="2330280"/>
              <a:ext cx="149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c00000"/>
                  </a:solidFill>
                  <a:latin typeface="Arial"/>
                </a:rPr>
                <a:t>Heat wa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Text Box 31"/>
            <p:cNvSpPr/>
            <p:nvPr/>
          </p:nvSpPr>
          <p:spPr>
            <a:xfrm rot="5400000">
              <a:off x="3149640" y="5616360"/>
              <a:ext cx="149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c00000"/>
                  </a:solidFill>
                  <a:latin typeface="Arial"/>
                </a:rPr>
                <a:t>Sno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Text Box 32"/>
            <p:cNvSpPr/>
            <p:nvPr/>
          </p:nvSpPr>
          <p:spPr>
            <a:xfrm rot="16200000">
              <a:off x="2180520" y="5616360"/>
              <a:ext cx="149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c00000"/>
                  </a:solidFill>
                  <a:latin typeface="Arial"/>
                </a:rPr>
                <a:t>Ra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Text Box 33"/>
            <p:cNvSpPr/>
            <p:nvPr/>
          </p:nvSpPr>
          <p:spPr>
            <a:xfrm rot="10800000">
              <a:off x="1017720" y="4455360"/>
              <a:ext cx="149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c00000"/>
                  </a:solidFill>
                  <a:latin typeface="Arial"/>
                </a:rPr>
                <a:t>Pleasant weath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Text Box 34"/>
            <p:cNvSpPr/>
            <p:nvPr/>
          </p:nvSpPr>
          <p:spPr>
            <a:xfrm>
              <a:off x="1017720" y="3185280"/>
              <a:ext cx="149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c00000"/>
                  </a:solidFill>
                  <a:latin typeface="Arial"/>
                </a:rPr>
                <a:t>Heat wa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Text Box 35"/>
            <p:cNvSpPr/>
            <p:nvPr/>
          </p:nvSpPr>
          <p:spPr>
            <a:xfrm rot="10800000">
              <a:off x="4305600" y="4455360"/>
              <a:ext cx="149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c00000"/>
                  </a:solidFill>
                  <a:latin typeface="Arial"/>
                </a:rPr>
                <a:t>Sno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Text Box 36"/>
            <p:cNvSpPr/>
            <p:nvPr/>
          </p:nvSpPr>
          <p:spPr>
            <a:xfrm>
              <a:off x="4305600" y="3185280"/>
              <a:ext cx="149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c00000"/>
                  </a:solidFill>
                  <a:latin typeface="Arial"/>
                </a:rPr>
                <a:t>Ra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Text Box 37"/>
            <p:cNvSpPr/>
            <p:nvPr/>
          </p:nvSpPr>
          <p:spPr>
            <a:xfrm rot="16200000">
              <a:off x="2090160" y="108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Text Box 38"/>
            <p:cNvSpPr/>
            <p:nvPr/>
          </p:nvSpPr>
          <p:spPr>
            <a:xfrm rot="5400000">
              <a:off x="4413960" y="108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Text Box 39"/>
            <p:cNvSpPr/>
            <p:nvPr/>
          </p:nvSpPr>
          <p:spPr>
            <a:xfrm>
              <a:off x="421200" y="2733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Text Box 40"/>
            <p:cNvSpPr/>
            <p:nvPr/>
          </p:nvSpPr>
          <p:spPr>
            <a:xfrm>
              <a:off x="6046560" y="2733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Text Box 41"/>
            <p:cNvSpPr/>
            <p:nvPr/>
          </p:nvSpPr>
          <p:spPr>
            <a:xfrm rot="10800000">
              <a:off x="444600" y="4999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Text Box 42"/>
            <p:cNvSpPr/>
            <p:nvPr/>
          </p:nvSpPr>
          <p:spPr>
            <a:xfrm rot="10800000">
              <a:off x="6064560" y="4999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Text Box 43"/>
            <p:cNvSpPr/>
            <p:nvPr/>
          </p:nvSpPr>
          <p:spPr>
            <a:xfrm rot="16200000">
              <a:off x="2127600" y="6673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Text Box 44"/>
            <p:cNvSpPr/>
            <p:nvPr/>
          </p:nvSpPr>
          <p:spPr>
            <a:xfrm rot="5400000">
              <a:off x="4403520" y="6673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Oval 46"/>
            <p:cNvSpPr/>
            <p:nvPr/>
          </p:nvSpPr>
          <p:spPr>
            <a:xfrm>
              <a:off x="5468400" y="6168240"/>
              <a:ext cx="823680" cy="8236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Oval 48"/>
            <p:cNvSpPr/>
            <p:nvPr/>
          </p:nvSpPr>
          <p:spPr>
            <a:xfrm>
              <a:off x="5468400" y="1216080"/>
              <a:ext cx="823680" cy="8236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Oval 49"/>
            <p:cNvSpPr/>
            <p:nvPr/>
          </p:nvSpPr>
          <p:spPr>
            <a:xfrm>
              <a:off x="523080" y="6168240"/>
              <a:ext cx="823680" cy="8236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Oval 50"/>
            <p:cNvSpPr/>
            <p:nvPr/>
          </p:nvSpPr>
          <p:spPr>
            <a:xfrm>
              <a:off x="523080" y="1216080"/>
              <a:ext cx="823680" cy="8236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9" name="Text Box 51"/>
          <p:cNvSpPr/>
          <p:nvPr/>
        </p:nvSpPr>
        <p:spPr>
          <a:xfrm>
            <a:off x="0" y="11916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a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53"/>
          <p:cNvSpPr/>
          <p:nvPr/>
        </p:nvSpPr>
        <p:spPr>
          <a:xfrm>
            <a:off x="525600" y="7481880"/>
            <a:ext cx="6095880" cy="18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rint and cut round outside of fortune te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Fold in half and in half aga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Open out, turn over so top is blank and fold each corner into the midd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urn over and repe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urn over so you can see the pi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lide your thumb and your finger behind 2 of the pictures and press together so they bend round and tou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urn over and repeat with the thumb and finger of the other hand for the other two pi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ll the pictures should now be at the front with centres touching and you are ready to use your fortune teller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Box 1"/>
          <p:cNvSpPr/>
          <p:nvPr/>
        </p:nvSpPr>
        <p:spPr>
          <a:xfrm rot="3600000">
            <a:off x="686520" y="6399720"/>
            <a:ext cx="4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Box 43"/>
          <p:cNvSpPr/>
          <p:nvPr/>
        </p:nvSpPr>
        <p:spPr>
          <a:xfrm rot="8541600">
            <a:off x="582480" y="1439640"/>
            <a:ext cx="4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Box 44"/>
          <p:cNvSpPr/>
          <p:nvPr/>
        </p:nvSpPr>
        <p:spPr>
          <a:xfrm rot="13651800">
            <a:off x="5566320" y="1352160"/>
            <a:ext cx="4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Box 45"/>
          <p:cNvSpPr/>
          <p:nvPr/>
        </p:nvSpPr>
        <p:spPr>
          <a:xfrm rot="19561800">
            <a:off x="5643000" y="6307200"/>
            <a:ext cx="4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2T14:03:36Z</dcterms:created>
  <dc:creator>Treleaven</dc:creator>
  <dc:description/>
  <dc:language>en-US</dc:language>
  <cp:lastModifiedBy>Louise Juul Hansen</cp:lastModifiedBy>
  <cp:lastPrinted>2019-10-24T13:07:01Z</cp:lastPrinted>
  <dcterms:modified xsi:type="dcterms:W3CDTF">2019-11-06T11:15:51Z</dcterms:modified>
  <cp:revision>25</cp:revision>
  <dc:subject/>
  <dc:title>PowerPoint Presentation</dc:title>
</cp:coreProperties>
</file>