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0E55-45D3-4997-A866-744466CD2EFB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6EA0-DC26-40AA-A8D0-CB83689A1F0A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0DB1-00A5-42F9-B68C-C25B1A7F66E7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5626-FD20-45BD-AC9A-561D1AB61E4A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7694-F728-42E3-8051-791F0DAFA3C0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087B-28F1-4892-9545-3F8035BE1CD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a grieving process:  the four emotional adjustments necessary to get on with lif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gnition – come to terms with the fact that the person is not com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lings – anger, sadness, fru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lls – gaining new skills e.g. arranging practical things like the funeral, economy, asking friends or family for help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ure – learning how to get on with one’s own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ight seek isolation when going through the adjustmen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encarta.msn.com/dictionary_1861739183/loss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9" descr="14-M3-p40"/>
          <p:cNvPicPr/>
          <p:nvPr/>
        </p:nvPicPr>
        <p:blipFill>
          <a:blip r:embed="rId1"/>
          <a:stretch/>
        </p:blipFill>
        <p:spPr>
          <a:xfrm>
            <a:off x="0" y="1116000"/>
            <a:ext cx="9144000" cy="574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7"/>
          <p:cNvSpPr/>
          <p:nvPr/>
        </p:nvSpPr>
        <p:spPr>
          <a:xfrm>
            <a:off x="76320" y="457200"/>
            <a:ext cx="8991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0000"/>
                </a:solidFill>
                <a:latin typeface="Arial"/>
              </a:rPr>
              <a:t>Loss and grie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HK" sz="2400" spc="-1" strike="noStrike">
                <a:solidFill>
                  <a:srgbClr val="000000"/>
                </a:solidFill>
                <a:latin typeface="Arial"/>
              </a:rPr>
              <a:t>Group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533520" y="1582560"/>
            <a:ext cx="815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mall groups think of different ways that people can grieve without engaging in traditional ceremonies and rituals that involve handling the dead bod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In other cultures individuals and families have planted trees in remembrance of their loved ones. Do you think that would be enough in Liber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have been able to hold memorial services for their loved ones using photographs of the person as a focal point. Do you think that is enough in Liber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do you think people could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to the group alternative ways that people can gri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HELPING OTH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666720" y="2403360"/>
            <a:ext cx="7632720" cy="35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Allow for intense e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Ask whether you would need to call someone to come to the location, and arrange for transportation for this person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Be prepared to allow a lot of time for the bereaved to process the information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Encourage family members to be together and offer resources for help, i.e. doctor, and/ or couns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Encourage the bereaved to take care of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Be aware and mindful of your own feelings about death; know your limitations in your effort to help another person who is in gr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HELPING YOURSEL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042920" y="1700280"/>
            <a:ext cx="740088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alize Your Grief is U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pect to Feel a Multitude of Emotions ( sadness, anger, guilt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cognize the Death's Impact on Your Entire Family/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ach Out to Others fo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 Tolerant of Your Physical and Emotional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mbrace Your Spirit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ow Yourself to Search for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easure Your Mem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ve Toward Your Grief and H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609480" y="1704960"/>
            <a:ext cx="799488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HK" sz="2600" spc="-1" strike="noStrike">
                <a:solidFill>
                  <a:srgbClr val="000000"/>
                </a:solidFill>
                <a:latin typeface="Arial"/>
              </a:rPr>
              <a:t>After the break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cap of the 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609480" y="1704960"/>
            <a:ext cx="799488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2600" spc="-1" strike="noStrike">
                <a:solidFill>
                  <a:srgbClr val="000000"/>
                </a:solidFill>
                <a:latin typeface="Arial"/>
              </a:rPr>
              <a:t>If you are only given 10 minutes to present the following materials, how will you do t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2600" spc="-1" strike="noStrike">
                <a:solidFill>
                  <a:srgbClr val="000000"/>
                </a:solidFill>
                <a:latin typeface="Arial"/>
              </a:rPr>
              <a:t>Group 1: Briefly introduce the verbal and non-verbal communication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2600" spc="-1" strike="noStrike">
                <a:solidFill>
                  <a:srgbClr val="000000"/>
                </a:solidFill>
                <a:latin typeface="Arial"/>
              </a:rPr>
              <a:t>Group 2: 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are the key elements of community-based psychosocial activiti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2600" spc="-1" strike="noStrike">
                <a:solidFill>
                  <a:srgbClr val="000000"/>
                </a:solidFill>
                <a:latin typeface="Arial"/>
              </a:rPr>
              <a:t>Group 3: Briefly give the audience some tips when providing PSS through hot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2600" spc="-1" strike="noStrike">
                <a:solidFill>
                  <a:srgbClr val="000000"/>
                </a:solidFill>
                <a:latin typeface="Arial"/>
              </a:rPr>
              <a:t>Group 4: What 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are the three most important messages related to loss and grief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9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oss and gr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609480" y="2362320"/>
            <a:ext cx="6248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and common reactions to l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he grief process and complicating f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How to help grieving pers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LOSS AND GRIEF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tent Placeholder 4"/>
          <p:cNvSpPr/>
          <p:nvPr/>
        </p:nvSpPr>
        <p:spPr>
          <a:xfrm>
            <a:off x="971640" y="1549440"/>
            <a:ext cx="4038480" cy="4525920"/>
          </a:xfrm>
          <a:prstGeom prst="rect">
            <a:avLst/>
          </a:prstGeom>
          <a:gradFill rotWithShape="0">
            <a:gsLst>
              <a:gs pos="0">
                <a:srgbClr val="cef1f4"/>
              </a:gs>
              <a:gs pos="100000">
                <a:srgbClr val="effa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ss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: fact of no longer having something, or having less of something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ct of dispossessing what one previously ow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5"/>
          <p:cNvSpPr/>
          <p:nvPr/>
        </p:nvSpPr>
        <p:spPr>
          <a:xfrm>
            <a:off x="5292720" y="1600200"/>
            <a:ext cx="3394080" cy="4525920"/>
          </a:xfrm>
          <a:prstGeom prst="rect">
            <a:avLst/>
          </a:prstGeom>
          <a:gradFill rotWithShape="0">
            <a:gsLst>
              <a:gs pos="0">
                <a:srgbClr val="cef1f4"/>
              </a:gs>
              <a:gs pos="100000">
                <a:srgbClr val="effa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rief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is a set of different reactions to any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motional response to death or other loss of a loved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Arial"/>
              </a:rPr>
              <a:t>LOSS RELATED TO ILL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042920" y="1855800"/>
            <a:ext cx="770580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</a:rPr>
              <a:t>In case of Ebola the person also goes through a process of losing which may or may not end by loss of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  <a:ea typeface="ヒラギノ角ゴ Pro W3"/>
              </a:rPr>
              <a:t>Loss of physical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  <a:ea typeface="ヒラギノ角ゴ Pro W3"/>
              </a:rPr>
              <a:t>Loss of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  <a:ea typeface="ヒラギノ角ゴ Pro W3"/>
              </a:rPr>
              <a:t>Loss of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  <a:ea typeface="ヒラギノ角ゴ Pro W3"/>
              </a:rPr>
              <a:t>Loss of physical attra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  <a:ea typeface="ヒラギノ角ゴ Pro W3"/>
              </a:rPr>
              <a:t>Loss of soci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  <a:ea typeface="ヒラギノ角ゴ Pro W3"/>
              </a:rPr>
              <a:t>Multiple losses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STAGES OF GRIEVING PROCES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042920" y="2392200"/>
            <a:ext cx="74898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Shock and Numb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Realization of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Re-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illustration-M3-p46"/>
          <p:cNvPicPr/>
          <p:nvPr/>
        </p:nvPicPr>
        <p:blipFill>
          <a:blip r:embed="rId1"/>
          <a:stretch/>
        </p:blipFill>
        <p:spPr>
          <a:xfrm>
            <a:off x="609480" y="1454040"/>
            <a:ext cx="5181840" cy="501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Four areas of adju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1f497d"/>
                </a:solidFill>
                <a:latin typeface="Arial"/>
              </a:rPr>
              <a:t>COMMON REACTIONS TO SUDDEN LO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042920" y="1773360"/>
            <a:ext cx="74455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</a:rPr>
              <a:t>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</a:rPr>
              <a:t>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</a:rPr>
              <a:t>G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</a:rPr>
              <a:t>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</a:rPr>
              <a:t>Des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</a:rPr>
              <a:t>Hopeles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</a:rPr>
              <a:t>Search for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</a:rPr>
              <a:t>Religious and spiritual beliefs get challe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</a:rPr>
              <a:t>Goals and plans get re-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1f497d"/>
                </a:solidFill>
                <a:latin typeface="Arial"/>
              </a:rPr>
              <a:t>FACTORS THAT AFFECT THE GRIEVING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1187280" y="1773360"/>
            <a:ext cx="667872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Cause of loss  (Ebola and  social stigma 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The location of the survivor at the time of loss – (Ebola isolation cent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  <a:ea typeface="Arial"/>
              </a:rPr>
              <a:t>Sudden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  <a:ea typeface="Arial"/>
              </a:rPr>
              <a:t>Suffering when dying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Arial"/>
                <a:ea typeface="Arial"/>
              </a:rPr>
              <a:t>Death of more than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1f497d"/>
                </a:solidFill>
                <a:latin typeface="Arial"/>
                <a:ea typeface="Arial"/>
              </a:rPr>
              <a:t>Ebola Safe burial  vs traditional buria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The survivor’s life situation at the time (financial pressures, job pressures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2560" y="45360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1f497d"/>
                </a:solidFill>
                <a:latin typeface="Arial"/>
              </a:rPr>
              <a:t>FACTORS THAT HELP THE GRIEVING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1042920" y="1700280"/>
            <a:ext cx="785016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ヒラギノ角ゴ Pro W3"/>
              </a:rPr>
              <a:t>Family, friends, community support, counselling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ヒラギノ角ゴ Pro W3"/>
              </a:rPr>
              <a:t>Support of co-workers, supervisors and the general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ヒラギノ角ゴ Pro W3"/>
              </a:rPr>
              <a:t>Survivor’s previous experience with loss and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ヒラギノ角ゴ Pro W3"/>
              </a:rPr>
              <a:t>Spiritual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ヒラギノ角ゴ Pro W3"/>
              </a:rPr>
              <a:t>The survivor’s personality, his/her attitude towards life and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ヒラギノ角ゴ Pro W3"/>
              </a:rPr>
              <a:t>Culture of the surviv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8:43:16Z</dcterms:created>
  <dc:creator>Office 2004 Test Drive User</dc:creator>
  <dc:description/>
  <dc:language>en-US</dc:language>
  <cp:lastModifiedBy>Eliza Cheung</cp:lastModifiedBy>
  <dcterms:modified xsi:type="dcterms:W3CDTF">2014-08-13T10:49:51Z</dcterms:modified>
  <cp:revision>58</cp:revision>
  <dc:subject/>
  <dc:title>PowerPoint Presentation</dc:title>
</cp:coreProperties>
</file>