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38389-66CE-412E-B0B0-20B9B98FD8A5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143D8-2C80-46C8-823B-F22DE57E5DEF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module  is a module for us, the humanitarian workers. The module will give us insights on what are the causes of stress for staff and volunteers working in difficult sit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cognize signs of burn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ggestions on how to manage stress in the workplace and how to contribute to the psychosocial well-being of our staff and volunteers thru peer suppo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C3A1F-3040-426E-B5A9-62044BCD89CB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pportive supervision is needed to maintain the quality of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vide emotional suppor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etin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DB1A4-BE2B-49E1-B9BF-285285B97865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7AFFF-3998-4C16-B75F-DE1B6F9C5186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ferral when staff /vol show serious signs of stress reactions the org. should have a referral mechanism within NS for professional support and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4A6A6-55E1-4736-8239-CF24A911D6C0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not try to hide anxiety or sleeping troub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not self-medicate – get medical adv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tinue to work on routine tasks. Tell peers and team leaders about your feelings and needs so they underst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ok for a healthy outlet. Write, exercise or play mu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 easy on yourself – it takes time to cope with a distressing ev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ek professional advice – if you still feel uneasy about your feelings after a few wee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DB8FC-09D6-408B-990A-60DDB33017C8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er support is important beca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knowledge about the work si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4179D-7747-4F03-8A2A-3080B3E3734F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ok for a healthy outlet. Write, exercise or play mu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 easy on yourself – it takes time to cope with a distressing ev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ek professional advice – if you still feel uneasy about your feelings after a few wee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F56E0-7A2C-4EAE-BB18-C4B3F7AE9F22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ok for a healthy outlet. Write, exercise or play mu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 easy on yourself – it takes time to cope with a distressing ev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ek professional advice – if you still feel uneasy about your feelings after a few wee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BD1F4-41A5-46D7-A970-63B7837F6280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FE424-43E5-484C-8631-6FD894572BC9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F17A6-A5D1-41E8-9224-25539C12E03F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BE3F5-8E10-4BFF-884C-1063D5E28437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6C422-FFCD-4C05-B495-F08F986DBC59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D43BF-D80D-461F-8D67-2AA00BDA2CB7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to: Nejato Emdad Azzire Av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881C9-B569-4422-9015-5E5FA91A4DF9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this section we will look out how stress and burnout among staff and volunteers canbe redu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64EE5-2150-4063-9C75-037FB9F86C4D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26212-4E2B-4B9B-B82C-A7E4C5B34E03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8AB27-7BF0-487C-9311-C5D730C38072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89520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69964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1804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69964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01804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8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79250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9520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0" descr="44-M7-p92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5" descr="1405_pp_trainers_A1B2"/>
          <p:cNvPicPr/>
          <p:nvPr/>
        </p:nvPicPr>
        <p:blipFill>
          <a:blip r:embed="rId2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4" descr="1405_pp_trainers_A1B"/>
          <p:cNvPicPr/>
          <p:nvPr/>
        </p:nvPicPr>
        <p:blipFill>
          <a:blip r:embed="rId3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9"/>
          <p:cNvSpPr/>
          <p:nvPr/>
        </p:nvSpPr>
        <p:spPr>
          <a:xfrm>
            <a:off x="152280" y="457200"/>
            <a:ext cx="8915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000" spc="-1" strike="noStrike">
                <a:solidFill>
                  <a:srgbClr val="000000"/>
                </a:solidFill>
                <a:latin typeface="Arial"/>
              </a:rPr>
              <a:t>Supporting volunteers and staf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1405_pp_trainers_A1B2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enefits of supporting staff and volunte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6858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Stress results i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decreased alertnes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poor judg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decreased efficienc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has consequences on heal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Stress equals time and money lo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1405_pp_trainers_A1B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1405_pp_trainers_A1B2"/>
          <p:cNvPicPr/>
          <p:nvPr/>
        </p:nvPicPr>
        <p:blipFill>
          <a:blip r:embed="rId1"/>
          <a:stretch/>
        </p:blipFill>
        <p:spPr>
          <a:xfrm>
            <a:off x="0" y="-61920"/>
            <a:ext cx="9144000" cy="15541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1405_pp_trainers_A1B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5"/>
          <p:cNvSpPr/>
          <p:nvPr/>
        </p:nvSpPr>
        <p:spPr>
          <a:xfrm>
            <a:off x="228600" y="395280"/>
            <a:ext cx="8915400" cy="12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Self c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609480" y="2133720"/>
            <a:ext cx="81536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324000" y="1484280"/>
            <a:ext cx="8534160" cy="49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"/>
          <p:cNvSpPr/>
          <p:nvPr/>
        </p:nvSpPr>
        <p:spPr>
          <a:xfrm>
            <a:off x="1332000" y="2765520"/>
            <a:ext cx="684036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292929"/>
                </a:solidFill>
                <a:latin typeface="Arial"/>
                <a:ea typeface="Arial"/>
              </a:rPr>
              <a:t>“</a:t>
            </a:r>
            <a:r>
              <a:rPr b="1" lang="en-GB" sz="3500" spc="-1" strike="noStrike">
                <a:solidFill>
                  <a:srgbClr val="292929"/>
                </a:solidFill>
                <a:latin typeface="Arial"/>
                <a:ea typeface="Arial"/>
              </a:rPr>
              <a:t>Put on your own oxygen mask before helping others”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1405_pp_trainers_A1B2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1405_pp_trainers_A1B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RACTICE SELF CA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"/>
          <p:cNvSpPr/>
          <p:nvPr/>
        </p:nvSpPr>
        <p:spPr>
          <a:xfrm>
            <a:off x="826920" y="1628640"/>
            <a:ext cx="7848720" cy="43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efo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ヒラギノ角ゴ Pro W3"/>
              </a:rPr>
              <a:t>Are you ready to hel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ur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ヒラギノ角ゴ Pro W3"/>
              </a:rPr>
              <a:t>How can you stay physically and emotionally healt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ヒラギノ角ゴ Pro W3"/>
              </a:rPr>
              <a:t>How can you support colleagues and they support yo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f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ヒラギノ角ゴ Pro W3"/>
              </a:rPr>
              <a:t>How can you take time to rest, recover and refle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1405_pp_trainers_A1B2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Your reactions are normal (1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6858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Talk to someone with whom you feel at ease, describe your thoughts and feelin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Listen to others and share insights with them. What do they say and think about the even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Take special care of yourself, eat well, limit alcohol and tobacco and stay f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Avoid perfectionist expectations; they often lead to disappointment and confli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1405_pp_trainers_A1B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1405_pp_trainers_A1B2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Your reactions are normal (2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6858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Do not try to hide feelin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Do not self-medic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Continue to work on routine tas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Look for a healthy outl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Go easy on yoursel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Seek professional 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1405_pp_trainers_A1B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1405_pp_trainers_A1B2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1405_pp_trainers_A1B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EK HELP WHEN YOU …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3"/>
          <a:stretch/>
        </p:blipFill>
        <p:spPr>
          <a:xfrm>
            <a:off x="5003640" y="2133720"/>
            <a:ext cx="4035600" cy="34383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3"/>
          <p:cNvSpPr/>
          <p:nvPr/>
        </p:nvSpPr>
        <p:spPr>
          <a:xfrm>
            <a:off x="952560" y="158904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ave upsetting thoughts or memories about the inter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eel very nervous or extremely s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ave trouble slee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rink a lot of alcohol or take drugs to cope with your exper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nsult a professional if these difficulties persist more than one mon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HK" sz="4000" spc="-1" strike="noStrike">
                <a:solidFill>
                  <a:srgbClr val="000000"/>
                </a:solidFill>
                <a:latin typeface="Arial"/>
              </a:rPr>
              <a:t>PEER SUPPOR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1405_pp_trainers_A1B2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hat is peer support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280" y="1752480"/>
            <a:ext cx="4114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Teaming of peers into supportive groups that pool their knowledge, perspectives, and experiences for the benefit of each other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A group of peers can provi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An informal support group of people who socialise both during and after the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A formal framework to discuss work and problem-solve toge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1405_pp_trainers_A1B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47-M7-p99"/>
          <p:cNvPicPr/>
          <p:nvPr/>
        </p:nvPicPr>
        <p:blipFill>
          <a:blip r:embed="rId3"/>
          <a:srcRect l="6120" t="0" r="10601" b="0"/>
          <a:stretch/>
        </p:blipFill>
        <p:spPr>
          <a:xfrm>
            <a:off x="4114800" y="1828800"/>
            <a:ext cx="4876920" cy="389412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9"/>
          <p:cNvSpPr/>
          <p:nvPr/>
        </p:nvSpPr>
        <p:spPr>
          <a:xfrm>
            <a:off x="304920" y="46483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1405_pp_trainers_A1B2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dvantages of a peer support programm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120" y="1904760"/>
            <a:ext cx="76964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29"/>
                </a:solidFill>
                <a:latin typeface="Arial"/>
              </a:rPr>
              <a:t>Support is provided by someone who knows the 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29"/>
                </a:solidFill>
                <a:latin typeface="Arial"/>
              </a:rPr>
              <a:t>Assistance can be provided in a short period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29"/>
                </a:solidFill>
                <a:latin typeface="Arial"/>
              </a:rPr>
              <a:t>Prompt peer support may prevent other problems from ari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29"/>
                </a:solidFill>
                <a:latin typeface="Arial"/>
              </a:rPr>
              <a:t>People under stress may just need some short-term help and don’t have major psychological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29"/>
                </a:solidFill>
                <a:latin typeface="Arial"/>
              </a:rPr>
              <a:t>Peer support helps people to develop their personal coping skil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1405_pp_trainers_A1B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1405_pp_trainers_A1B2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inciples of peer suppor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120" y="1904760"/>
            <a:ext cx="76964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Be available in a non-intrusive 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Manage the situation and locate resources – find a quiet place and locate relevant people that can help, e.g. family, friends, medical hel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Provide information – one of the key elements of gaining control is information about the sit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Assist in establishing self control – treat the person as a colleague or friend, not as a victim. Give encouragement – it is important to encourage positive explanations although not being unreali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Maintain confidentiality – this is the cornerstone in all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Provide follow up in a non-intrusive 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1405_pp_trainers_A1B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24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609480" y="2090880"/>
            <a:ext cx="7772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400" spc="-1" strike="noStrike">
                <a:solidFill>
                  <a:srgbClr val="000000"/>
                </a:solidFill>
                <a:latin typeface="Arial"/>
              </a:rPr>
              <a:t>Participants should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PH" sz="2400" spc="-1" strike="noStrike">
                <a:solidFill>
                  <a:srgbClr val="000000"/>
                </a:solidFill>
                <a:latin typeface="Arial"/>
              </a:rPr>
              <a:t>understand causes of stress for volunteers and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PH" sz="2400" spc="-1" strike="noStrike">
                <a:solidFill>
                  <a:srgbClr val="000000"/>
                </a:solidFill>
                <a:latin typeface="Arial"/>
              </a:rPr>
              <a:t>recognize signs of burn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PH" sz="2400" spc="-1" strike="noStrike">
                <a:solidFill>
                  <a:srgbClr val="000000"/>
                </a:solidFill>
                <a:latin typeface="Arial"/>
              </a:rPr>
              <a:t>be able to care for colleagues and for thems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1405_pp_trainers_A1B2"/>
          <p:cNvPicPr/>
          <p:nvPr/>
        </p:nvPicPr>
        <p:blipFill>
          <a:blip r:embed="rId1"/>
          <a:stretch/>
        </p:blipFill>
        <p:spPr>
          <a:xfrm>
            <a:off x="0" y="-61920"/>
            <a:ext cx="9144000" cy="15541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1405_pp_trainers_A1B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5"/>
          <p:cNvSpPr/>
          <p:nvPr/>
        </p:nvSpPr>
        <p:spPr>
          <a:xfrm>
            <a:off x="228600" y="395280"/>
            <a:ext cx="8915400" cy="12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Role P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609480" y="2133720"/>
            <a:ext cx="81536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395280" y="1484280"/>
            <a:ext cx="8534520" cy="49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92929"/>
                </a:solidFill>
                <a:latin typeface="Arial"/>
                <a:ea typeface="Arial"/>
              </a:rPr>
              <a:t>3 people in a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92929"/>
                </a:solidFill>
                <a:latin typeface="Arial"/>
                <a:ea typeface="Arial"/>
              </a:rPr>
              <a:t>A colleague of you has been working 7 days a week for a month in responding to Ebola. He/she does not take rest and keeps working. You find that person is getting more irritable these days and work performance drops. How are you going to support her/hi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92929"/>
              </a:buClr>
              <a:buFont typeface="Helvetic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92929"/>
                </a:solidFill>
                <a:latin typeface="Arial"/>
                <a:ea typeface="Arial"/>
              </a:rPr>
              <a:t>colleague in dist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92929"/>
              </a:buClr>
              <a:buFont typeface="Helvetic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92929"/>
                </a:solidFill>
                <a:latin typeface="Arial"/>
                <a:ea typeface="Arial"/>
              </a:rPr>
              <a:t>Helper (active listening and facilitation of adoption of adaptive coping strateg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92929"/>
              </a:buClr>
              <a:buFont typeface="Helvetic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92929"/>
                </a:solidFill>
                <a:latin typeface="Arial"/>
                <a:ea typeface="Arial"/>
              </a:rPr>
              <a:t>Observer (observe and com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92929"/>
              </a:buClr>
              <a:buFont typeface="Helvetic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1405_pp_trainers_A1B2"/>
          <p:cNvPicPr/>
          <p:nvPr/>
        </p:nvPicPr>
        <p:blipFill>
          <a:blip r:embed="rId1"/>
          <a:stretch/>
        </p:blipFill>
        <p:spPr>
          <a:xfrm>
            <a:off x="0" y="-61920"/>
            <a:ext cx="9144000" cy="1554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1405_pp_trainers_A1B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5"/>
          <p:cNvSpPr/>
          <p:nvPr/>
        </p:nvSpPr>
        <p:spPr>
          <a:xfrm>
            <a:off x="228600" y="395280"/>
            <a:ext cx="8915400" cy="12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Role Play: Psychoeducation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609480" y="2133720"/>
            <a:ext cx="81536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395280" y="1484280"/>
            <a:ext cx="8534520" cy="49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92929"/>
                </a:solidFill>
                <a:latin typeface="Arial"/>
                <a:ea typeface="Arial"/>
              </a:rPr>
              <a:t>4-5 people in a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92929"/>
                </a:solidFill>
                <a:latin typeface="Arial"/>
                <a:ea typeface="Arial"/>
              </a:rPr>
              <a:t>You are a group of frontline workers for the Ebola outbreak. Team members encounter a lot of survivors and distressed individuals due to the Ebola outbreak. Being the team leader of the group, you would like to provide some psychoeducation to them and a chance for them to support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92929"/>
              </a:buClr>
              <a:buFont typeface="Helvetic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92929"/>
                </a:solidFill>
                <a:latin typeface="Arial"/>
                <a:ea typeface="Arial"/>
              </a:rPr>
              <a:t>A team l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92929"/>
              </a:buClr>
              <a:buFont typeface="Helvetic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92929"/>
                </a:solidFill>
                <a:latin typeface="Arial"/>
                <a:ea typeface="Arial"/>
              </a:rPr>
              <a:t>A distressed worker who always drink alcohol and late for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92929"/>
              </a:buClr>
              <a:buFont typeface="Helvetic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92929"/>
                </a:solidFill>
                <a:latin typeface="Arial"/>
                <a:ea typeface="Arial"/>
              </a:rPr>
              <a:t>Some supportive colleag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1405_pp_trainers_A1B2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1405_pp_trainers_A1B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5"/>
          <p:cNvSpPr/>
          <p:nvPr/>
        </p:nvSpPr>
        <p:spPr>
          <a:xfrm>
            <a:off x="228600" y="533520"/>
            <a:ext cx="8915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c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609480" y="1981080"/>
            <a:ext cx="7086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Summarize individually key points covered and note dow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Divide into groups of four to five and agree on the 3 most important messages of the ses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Feedback in ple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1405_pp_trainers_A1B2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Stress at wor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1405_pp_trainers_A1B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7"/>
          <p:cNvSpPr/>
          <p:nvPr/>
        </p:nvSpPr>
        <p:spPr>
          <a:xfrm>
            <a:off x="609480" y="2362320"/>
            <a:ext cx="7086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Group discussio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Think about situations where you or others  experienced stress over a sustained period of time at work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What triggered the stres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How was it manifested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7" descr="46-M7-p96"/>
          <p:cNvPicPr/>
          <p:nvPr/>
        </p:nvPicPr>
        <p:blipFill>
          <a:blip r:embed="rId1"/>
          <a:stretch/>
        </p:blipFill>
        <p:spPr>
          <a:xfrm>
            <a:off x="0" y="1523880"/>
            <a:ext cx="3251160" cy="4876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1405_pp_trainers_A1B2"/>
          <p:cNvPicPr/>
          <p:nvPr/>
        </p:nvPicPr>
        <p:blipFill>
          <a:blip r:embed="rId2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Causes of helpers’ stress (1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76720" y="1676520"/>
            <a:ext cx="5867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550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92929"/>
                </a:solidFill>
                <a:latin typeface="Arial"/>
              </a:rPr>
              <a:t>Poor preparation and brief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550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92929"/>
                </a:solidFill>
                <a:latin typeface="Arial"/>
              </a:rPr>
              <a:t>Being a part of a collective cri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550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92929"/>
                </a:solidFill>
                <a:latin typeface="Arial"/>
              </a:rPr>
              <a:t>Prolonged exposure to a disaster situ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550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92929"/>
                </a:solidFill>
                <a:latin typeface="Arial"/>
              </a:rPr>
              <a:t>Physically difficult, exhausting, and dangerous tas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550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92929"/>
                </a:solidFill>
                <a:latin typeface="Arial"/>
              </a:rPr>
              <a:t>Lack of sleep and feeling chronically fatigu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550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92929"/>
                </a:solidFill>
                <a:latin typeface="Arial"/>
              </a:rPr>
              <a:t>Feeling inadequate in dealing with the tas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550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92929"/>
                </a:solidFill>
                <a:latin typeface="Arial"/>
              </a:rPr>
              <a:t>Facing moral and ethical dilemma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550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92929"/>
                </a:solidFill>
                <a:latin typeface="Arial"/>
              </a:rPr>
              <a:t>Feeling frustrated by policies / decisions of superi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1405_pp_trainers_A1B"/>
          <p:cNvPicPr/>
          <p:nvPr/>
        </p:nvPicPr>
        <p:blipFill>
          <a:blip r:embed="rId3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7" descr="45-M7-p94"/>
          <p:cNvPicPr/>
          <p:nvPr/>
        </p:nvPicPr>
        <p:blipFill>
          <a:blip r:embed="rId1"/>
          <a:stretch/>
        </p:blipFill>
        <p:spPr>
          <a:xfrm>
            <a:off x="0" y="1371600"/>
            <a:ext cx="3386160" cy="51055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1405_pp_trainers_A1B2"/>
          <p:cNvPicPr/>
          <p:nvPr/>
        </p:nvPicPr>
        <p:blipFill>
          <a:blip r:embed="rId2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Causes of helpers’ stress (2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733920" y="175248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92929"/>
                </a:solidFill>
                <a:latin typeface="Arial"/>
              </a:rPr>
              <a:t>Being detached from your support system (home and famil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92929"/>
                </a:solidFill>
                <a:latin typeface="Arial"/>
              </a:rPr>
              <a:t>Feeling unsupported at your work si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92929"/>
                </a:solidFill>
                <a:latin typeface="Arial"/>
              </a:rPr>
              <a:t>Facing the perceived inability to never do enoug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92929"/>
                </a:solidFill>
                <a:latin typeface="Arial"/>
              </a:rPr>
              <a:t>Being exposed to the anger / apparent lack of gratitu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92929"/>
                </a:solidFill>
                <a:latin typeface="Arial"/>
              </a:rPr>
              <a:t>Unclear, inadequate or inconsistent supervi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92929"/>
                </a:solidFill>
                <a:latin typeface="Arial"/>
              </a:rPr>
              <a:t>Feeling guilt over access to food, shelter, and other resour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1405_pp_trainers_A1B"/>
          <p:cNvPicPr/>
          <p:nvPr/>
        </p:nvPicPr>
        <p:blipFill>
          <a:blip r:embed="rId3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1405_pp_trainers_A1B2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ow to manage helpers’ stress (1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120" y="190476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Guidance and support from team lead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Encourage and support your co-work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Respect confidentiality so that people can feel safe admitting stress and seeking help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Openly talk and share your problems without fearing the consequen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1405_pp_trainers_A1B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1405_pp_trainers_A1B2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ow to manage helpers’ stress (2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90476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Emphasize self 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Take a break when you feel your tolerance diminish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Stay in touch with family and frien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Defuse briefly whenever you experience troubling incidents and after each work shif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Create a peer support system for sharing experien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1405_pp_trainers_A1B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1405_pp_trainers_A1B2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da-DK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6858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292929"/>
                </a:solidFill>
                <a:latin typeface="Arial"/>
              </a:rPr>
              <a:t>BURNO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1405_pp_trainers_A1B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1405_pp_trainers_A1B2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Burnou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6858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An emotional state due to long-term stress, characterized by chronic emotional exhaustion, depleted energy, impaired enthusiasm and motivation to work, diminished work efficiency, a diminished sense of personal accomplishment and pessimism and cynicis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1405_pp_trainers_A1B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11:31:13Z</dcterms:created>
  <dc:creator>Office 2004 Test Drive User</dc:creator>
  <dc:description/>
  <dc:language>en-US</dc:language>
  <cp:lastModifiedBy>Eliza Cheung</cp:lastModifiedBy>
  <dcterms:modified xsi:type="dcterms:W3CDTF">2014-08-16T09:19:15Z</dcterms:modified>
  <cp:revision>72</cp:revision>
  <dc:subject/>
  <dc:title>PowerPoint Presentation</dc:title>
</cp:coreProperties>
</file>