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1FE1-C0BA-4491-A02F-BDEEA251CB4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E24C-D0DF-4C30-990A-EEF1470A66B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Cruz Roja australiana (respuesta al incendio forestal de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DE33-3F64-4336-89A3-E03313E6888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933-CA16-47BC-A3AD-9327BF040B6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Jakob Dall/Cruz Roja Dan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720-B292-482C-B39B-648CD38F507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ADB4-1951-4F81-AEDF-A0D6A444B5A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BDF8-E3F2-491D-B038-30E34A7A2D7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7C4-9A95-4A31-AB96-B0F0151D59D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Åsta Ytre/Centro d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7AAD-E82F-4589-B68E-0B64D86B429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FB0-641A-43CB-8BD5-9512899E30C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297-DC6B-4082-A84B-3DF217F2103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9FAB-596D-4FAB-981B-E7632E38109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74B-BF09-410A-BC06-74229D91CBF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A74D-EFFB-4088-8519-2C4920D351C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AB16-B139-4F4E-A41F-0B9AC7C49EE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9C5D-4A93-4290-B8D5-00EBBF9415A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Lars Møller/Cruz Roja Dan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D59-E89C-42D1-A55B-A5E43129E00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tografía: Åsta Ytre/Centro de AS (de Georgia tras el conflicto de 2008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82AB-AB8A-4724-8E0E-34286739B48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F4DC-1CFE-47C7-93CF-793E1F5E009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29-M5-p62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304920" y="441360"/>
            <a:ext cx="4038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ódulo 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4648320" y="45720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Primeros auxilios psicológicos y comunicación emp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Valores clave en la comunicación empá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678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La empatía es la capacidad de ver y sentir desde la perspectiva de la persona afect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El respeto te permitirá escuchar y no hacer supos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Al comunicarte, ten en cuenta la necesidad de empoderar a la persona afect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Asegúrate de no hacer juicios de v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esponder ante una situación de cr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Sé constructivo y céntrate en las acciones recientes que se puedan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Responde con afirmaciones de carácter general en lugar de plantear preguntas o proporcionar resp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Céntrate en los pensamientos y sentimientos de la pers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Aporta comentarios de apoyo sin juicios de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Formula preguntas abier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Concéntrate en lo que dice 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32-M5-p68"/>
          <p:cNvPicPr/>
          <p:nvPr/>
        </p:nvPicPr>
        <p:blipFill>
          <a:blip r:embed="rId2"/>
          <a:stretch/>
        </p:blipFill>
        <p:spPr>
          <a:xfrm>
            <a:off x="457200" y="4114800"/>
            <a:ext cx="549900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municación no verbal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La comunicación no verbal es tan importante como la verba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Algunos consejos úti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Ponte enfrente del interlocu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Muestra una postura abierta, especialmente con los braz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Mantén una distancia adecuada: la proximidad indica interés, pero también puede transmitir intimidad, informalidad o agresivid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Establece un contacto visual frecuente que no resulte intrusi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Sé especialmente consciente de las diferentes prácticas culturales con respecto a esta ac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300" spc="-1" strike="noStrike">
                <a:solidFill>
                  <a:srgbClr val="292929"/>
                </a:solidFill>
                <a:latin typeface="Arial"/>
              </a:rPr>
              <a:t>Muéstrate tranquilo y relaj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scuchar y respon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0880" y="1447920"/>
            <a:ext cx="6324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Trabajad en grupos de t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Asumid los siguientes papeles: colaborador, receptor, observ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El receptor comparte un asunto relacionado con su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El colaborador deberá practicar todas las destrezas aprendidas hasta el mo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El observador deberá aportar sus opiniones al colabo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Habilidades de comunicación pers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80880" y="14479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Seguid en los mismos grup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Debatid las siguientes cuest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Cuando trabajas como colaborador, ¿qué habilidades de comunicación necesit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Arial"/>
              </a:rPr>
              <a:t>¿Qué valores son los más importantes en aquellas situaciones donde son necesarias estas habilidad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nducta é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0" y="17521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No hagas d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Sé digno de confianza y mantén tu palabra con acciones oport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Nunca te aproveches de una 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Respeta el derecho de las personas a tomar sus propias deci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Nunca exageres tus destrezas o 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Sé consciente de tu parcialidad y tus preju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33-M5-p71"/>
          <p:cNvPicPr/>
          <p:nvPr/>
        </p:nvPicPr>
        <p:blipFill>
          <a:blip r:embed="rId2"/>
          <a:stretch/>
        </p:blipFill>
        <p:spPr>
          <a:xfrm>
            <a:off x="228600" y="2008080"/>
            <a:ext cx="4724280" cy="340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Grupos de apoy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El bienestar psicosocial a menudo fluye de experiencias de participación comunitaria y de un esfuerzo colabo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Las personas que sienten que forman parte de un grupo efectivo llegan a tener una sensación de pertenencia y val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Establecer un grupo de apoyo resulta económico y relativamente senc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Básate fundamentalmente en ayudar a las personas a nivel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Siéntete cómodo y eficiente a la hora de trabajar con grupos de diversos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</a:rPr>
              <a:t>Define un grupo meta que gire en torno a un problema sobre el que exista suficiente interés para motivar una participación sign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ilitar grupos de apoy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</a:rPr>
              <a:t>Los factores cruciales de este proceso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Un buen facilitador, experto en trabajo de grup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Reuniones periódicamente programadas en un lugar acce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Grupos que se basen en las necesidades y deseos de los miembros de la comun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9480" y="205740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Cuáles son los cuatro elementos de los primeros auxilios psicológic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Qué significa la comunicación empátic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Qué son los grupos de apoyo y cómo funcion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imeros auxilios psicológicos y </a:t>
            </a:r>
            <a:br>
              <a:rPr sz="3200"/>
            </a:b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municación empá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Primeros auxilios psicológic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comunicación emp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Apoyo telefónico y facilitación de grupos de apo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imeros auxilios psicológicos y </a:t>
            </a:r>
            <a:br>
              <a:rPr sz="3200"/>
            </a:b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municación empá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La escucha activa constituye el elemento primordial de los primeros auxilios psicológ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nocer el punto de inic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Si el auténtico éxito es lograr el esfuerzo de llevar a un hombre a una definida posición, ante todo, es preciso fatigarse para encontrarle donde está y empezar ah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da-DK" sz="1400" spc="-1" strike="noStrike">
                <a:solidFill>
                  <a:srgbClr val="292929"/>
                </a:solidFill>
                <a:latin typeface="Arial"/>
              </a:rPr>
              <a:t>- Søren Kierkegaard, filósofo danés del siglo 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scucha acti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Trabajo en parej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Una persona le cuenta a la otra una historia personal</a:t>
            </a:r>
            <a:br>
              <a:rPr sz="2600"/>
            </a:b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, que no tiene por qué ser una situación de cris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La otra persona escucha de forma activa formulando preguntas aclaratorias y que sirvan para sintetiz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¿Cuándo son necesarios los primeros auxilios psicológico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1008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Catástrof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Primeros auxil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Visitas a domicil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Apoyo telefónico y en lín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32-M5-p67"/>
          <p:cNvPicPr/>
          <p:nvPr/>
        </p:nvPicPr>
        <p:blipFill>
          <a:blip r:embed="rId2"/>
          <a:stretch/>
        </p:blipFill>
        <p:spPr>
          <a:xfrm>
            <a:off x="228600" y="2163600"/>
            <a:ext cx="5041800" cy="378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0-M5-p63"/>
          <p:cNvPicPr/>
          <p:nvPr/>
        </p:nvPicPr>
        <p:blipFill>
          <a:blip r:embed="rId1"/>
          <a:stretch/>
        </p:blipFill>
        <p:spPr>
          <a:xfrm>
            <a:off x="0" y="1447920"/>
            <a:ext cx="4897440" cy="525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imeros auxilios psicológic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76560" y="1752120"/>
            <a:ext cx="419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Escuchar activamente – el elemento cl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Cercanía – estar cerca supone una muestra de cuid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Aceptar los sentimientos – aceptar la interpretación del suceso por parte de la persona afect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292929"/>
                </a:solidFill>
                <a:latin typeface="Arial"/>
              </a:rPr>
              <a:t>Proporcionar cuidados generales y ayuda práctica – también es una forma de mostrar cuid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915240" cy="480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eacciones y respuestas psicológ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1823040" y="2438280"/>
            <a:ext cx="2216880" cy="291960"/>
          </a:xfrm>
          <a:prstGeom prst="rect">
            <a:avLst/>
          </a:prstGeom>
          <a:solidFill>
            <a:srgbClr val="ae5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300" spc="-1" strike="noStrike">
                <a:solidFill>
                  <a:srgbClr val="ffffff"/>
                </a:solidFill>
                <a:latin typeface="Arial Rounded MT Bold"/>
                <a:ea typeface="Verdana"/>
              </a:rPr>
              <a:t>REACCIONES PSICÓGICA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oporcionar primeros auxilios psicológ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0880" y="175248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Dividíos en grupos de 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Leed el caso hipotétic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Acordad los pape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Cecilia, que necesita primeros auxilios psicológic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l colaborador, que ayuda al recep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l observador, que toma nota de los elementos constituyentes de primeros auxilios psicológicos en la inter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Martha Bird</cp:lastModifiedBy>
  <dcterms:modified xsi:type="dcterms:W3CDTF">2012-11-26T15:44:47Z</dcterms:modified>
  <cp:revision>67</cp:revision>
  <dc:subject/>
  <dc:title>PowerPoint Presentation</dc:title>
</cp:coreProperties>
</file>