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5BE-BBDD-459A-92F7-A70D00719D3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959-2F23-4DA3-AF2E-918CCA8EA69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Ulrik Norup Jørgensen/Cruz Roja Dan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B57-E7FA-43D1-A99B-EC63E31AA0A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7E7-EED2-4721-9CBE-D6A38CF1176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4CA-5B04-4CF6-8162-94091D23295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7BA-68E9-4497-BEBA-034E5B734FD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trates de esconder tu ansiedad o problemas de sue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te automediques - busca ayuda profes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ontinúa trabajando en tareas rutinarias. Habla con tus compañeros y líderes de grupo acerca de tus sentimientos y necesidades para que te comprend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una forma saludable de distracción. Escribe, haz ejercicio o toca algún instru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seas demasiado duro contigo mismo – lleva tiempo afrontar un suceso angusti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ayuda profesional – si después de unas semanas sigues sintiéndote incómodo con tus senti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CE82-B693-4021-A81E-F4ADE0F8478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Heine Pedersen/Cruz Roja Dan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8BD-5964-4754-9B08-AF1BB1CED51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una forma saludable de distracción. Escribe, haz ejercicio o toca algún instru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seas demasiado duro contigo mismo – lleva tiempo afrontar un suceso angusti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ayuda profesional – si después de unas semanas sigues sintiéndote incómodo con tus senti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759B-E1BE-4F12-8829-00021541364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una forma saludable de distracción. Escribe, haz ejercicio o toca algún instru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seas demasiado duro contigo mismo – lleva tiempo afrontar un suceso angusti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sca ayuda profesional – si después de unas semanas sigues sintiéndote incómodo con tus senti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8698-EBD1-4DD7-B6D8-02F8A3B5016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F6A-2B17-4DD0-BD95-2BDF0995CA3C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E035-6918-4AEB-A858-F4611495333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E2E-61AE-4C5C-8A1D-85C939B148E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2D4-DCF2-4E60-84C6-C1E7184C569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B48-5442-4A05-A110-338E66FB3FE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Cruz Roja Americ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262-2402-4A9F-A135-2A325F4DECB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Nejato Emdad Azzire A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A45A-F0DB-4000-9026-A6510E0D259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A286-663E-413E-A09F-A62367543C7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089-7324-4515-80AE-5BD3ACCE093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44-M7-p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ódulo 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Apoyo a voluntarios y al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Beneficios de apoyar al personal y a los voluntari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El estrés provo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menor aler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rend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falta de crite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menor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tiene consecuencias sobre la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El estrés equivale a una pérdida de tiempo y di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strés en el trabaj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Trabajo en pare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Recuperad vuestras anotaciones de la actividad ant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ómo se pueden abordar la causas de estrés que identificasteis?  Utilizad las ideas y las actividades mencionadas en esta s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 continuación, debatid vuestros resultados en la sesión plena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Tus reacciones son normale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Habla con alguien con quien te sientas cómodo, describe tus pensamientos y 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Escucha a otros y comparte tus puntos de vista con ellos. ¿Qué dicen y piensan sobre el suc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Cuida de tu salud, come bien, limita el consumo de alcohol y tabaco y mantente en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Evita las expectativas demasiado perfeccionistas, ya que suelen llevar a la decepción y a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Tus reacciones son normale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No trates de esconder tus sent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No te automed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Continúa trabajando en tareas rutina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Busca una forma saludable de distr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No seas demasiado duro contigo m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Busca ayuda profes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¿Qué es el apoyo mutu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Agrupar a los compañeros en grupos de apoyo que compartan sus conocimientos, perspectivas y experiencias para beneficio mutu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Un grupo de compañeros puede apor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Un grupo de apoyo informal de personas que socialicen tanto durante el trabajo como después de 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Un marco formal para debatir sobre el trabajo y solucionar los problemas conjun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47-M7-p99"/>
          <p:cNvPicPr/>
          <p:nvPr/>
        </p:nvPicPr>
        <p:blipFill>
          <a:blip r:embed="rId3"/>
          <a:srcRect l="6120" t="0" r="10601" b="0"/>
          <a:stretch/>
        </p:blipFill>
        <p:spPr>
          <a:xfrm>
            <a:off x="4114800" y="1828800"/>
            <a:ext cx="4876920" cy="3894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304920" y="46483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Ventajas de un programa de apoyo mutu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El apoyo se da por alguien que conoce la sit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La asistencia puede ser suministrada en un corto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Un apoyo mutuo temprano puede prevenir que surjan otr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Las personas que sufren estrés podrían necesitar solo ayuda a corto plazo y no sufrir mayores problemas psi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</a:rPr>
              <a:t>El apoyo mutuo ayuda a las personas a desarrollar sus capacidades personales para sobrellevar una sit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incipios del apoyo mutu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Estar disponible de una forma no intru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Gestionar la situación y localizar recursos – encontrar un lugar tranquilo y localizar a las personas adecuadas que puedan ayudar, por ejemplo familiares, amigos, personal sa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uministrar información – uno de los elementos clave para obtener control es informar sobre l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Ayudar a establecer el autocontrol – tratar a la persona como un compañero o amigo, no como una victima Dar apoyo – es importante alentar con una explicación positiva, sin dejar de ser rea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Mantener la confidencialidad – este es el pilar de todo tipo de 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Proporcionar un seguimiento de forma no intru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scuchar y respon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609480" y="2362320"/>
            <a:ext cx="769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Juego de roles en grupos de t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sumid los siguientes papeles: colaborador, receptor y observ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receptor comparte un problema relacionado con el trabaj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colaborador deberá practicar sus destrezas de escucha a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observador aportará opiniones sobre el ejerc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09480" y="198108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Resumid los puntos clave abarcados individualmente y anotad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Dividíos en grupos de cuatro o cinco y consensuad cuáles son los tres mensajes más importantes de la se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Opiniones en sesión plen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Apoyo a voluntarios y al pers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Síntomas de estrés y agot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Cómo el personal y los voluntarios pueden ayudar a sus compañeros y a ellos mis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strés en el trabaj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Trabajo individu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Piensa en situaciones en las que tú u otros hayáis experimentado estrés durante un periodo prolongado de tiempo en el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Qué fue lo que propició el estré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ómo se manifestó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uestionario sobre el estré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Trabajo individu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Rellena el cuestionario que se te ha entreg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Suma tu punt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 continuación, comparte tus resultados en la sesión plenaria si te apet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46-M7-p96"/>
          <p:cNvPicPr/>
          <p:nvPr/>
        </p:nvPicPr>
        <p:blipFill>
          <a:blip r:embed="rId1"/>
          <a:stretch/>
        </p:blipFill>
        <p:spPr>
          <a:xfrm>
            <a:off x="0" y="1523880"/>
            <a:ext cx="3251160" cy="487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as de estrés en los colaboradore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Poca preparación y escasa descrip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er parte de una crisis col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Exposición prolongada a la situación de des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Labores físicamente difíciles, agotadoras y peligr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Falta de sueño y sensación de cansancio c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ensación de inadecuación para afrontar la 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Confrontación con dilemas éticos o mo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Frustración debido a políticas / decisiones de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45-M7-p94"/>
          <p:cNvPicPr/>
          <p:nvPr/>
        </p:nvPicPr>
        <p:blipFill>
          <a:blip r:embed="rId1"/>
          <a:stretch/>
        </p:blipFill>
        <p:spPr>
          <a:xfrm>
            <a:off x="0" y="1371600"/>
            <a:ext cx="3386160" cy="510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as de estrés en los colaboradore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Estar separado del sistema de apoyo propio (hogar y fam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Sensación de falta de apoyo en el lugar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Confrontación con la sensación de no hacer nunca lo sufic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Exposición al enfado / aparente falta de agrad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Supervisión poco evidente, inadecuada o incohe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Culpabilidad por tener acceso a alimentos, techo y otr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ómo gestionar el estrés de los colaboradore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Orientación y apoyo de los líderes de gru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nimar y apoyar a sus compañ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Respetar la confidencialidad para que las personas se puedan sentir seguras al admitir que sufren estrés y que necesitan ayu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Hablar abiertamente y compartir los problemas sin temor a las 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ómo gestionar el estrés de los colaboradore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Hacer hincapié en cuidarse a sí m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Hacer un descanso cuando se sienta que la tolerancia disminuy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Mantener el contacto con familiares y ami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Distender brevemente la situación cuando se experimenten incidentes problemáticos y después de cada jornada de trabaj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Crear un sistema de apoyo entre compañeros para compartir las experi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Agotami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Un estado emocional debido al estrés a largo plazo, caracterizado por un cansancio emocional crónico, poca energía, poco entusiasmo y motivación para trabajar, una menor eficiencia laboral, un menor sentido de cumplimiento personal, pesimismo y cinism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Geo</cp:lastModifiedBy>
  <dcterms:modified xsi:type="dcterms:W3CDTF">2012-11-23T13:21:51Z</dcterms:modified>
  <cp:revision>37</cp:revision>
  <dc:subject/>
  <dc:title>PowerPoint Presentation</dc:title>
</cp:coreProperties>
</file>