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8B20-2A11-44D0-8BBA-4F6E755F56B0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C756-25B2-4B34-9271-754FC0728C8A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5BC3-855D-4A16-9FB4-CF45AD6EA55D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0023-7DB3-419E-9BB9-A8DAFE5E7528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6761-3452-4BDF-93FF-315AFD9161F0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571F-EC3C-4511-B366-962C87207EB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775C-90D7-4A1A-A8F3-A9776C18C36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A95C-9367-4F09-B97C-2660667D7AAA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D4DF-7DC4-4D7C-AD38-08244F110AD7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0072-3610-465F-B956-A9D4BF4FE5E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9938-5572-475F-B3C2-D560BDCBAD16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7E87-EC2C-4F96-BF4C-1F6DDF436A9C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8AC8-EA2B-47EC-90A1-568D011F61AA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6AAE-71D8-4C11-8D83-4D92D76F43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aracterísticas de las situaciones de cri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repent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poderos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suelen sobrepasar todas las experiencias diarias com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tienen un gran impacto emocional en las 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pueden llegar a doblegar las capacidades de respuesta normalmente eficaces de una persona o un gru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Analizad los diferentes tipos de situaciones críticas en las que la Cruz Roja y la Media Luna Roja lleven a cabo labores de AS.  Se indican ejemplos en el mapa de la diapositiva de desastres naturales, conflictos armados, crisis relacionadas con la salud y primeros auxilios psicológ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Bam / Pakistán – Terrem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Beslán – Masacre esc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Zimbabue/Sudáfrica – VIH/S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Bulgaria – Línea telefónica y asesoramiento para mujeres víctimas de tr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Palestina – Niños afectados por los conflictos arm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olombia – Desplazados inter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Indonesia/Sri Lanka – Tsun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Siria – Refugi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Líbano – Conflicto arm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Israel / Austria – Conductores de ambulan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inamarca – Línea telefónica para jóvenes que están sol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9D32-30ED-4020-8927-8019815B2ABF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0044-46CD-4628-95C0-02063C0AC6C6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B6FC-DF00-4E39-ABA6-812DB7B7F8F9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577F-F620-4710-A9E9-8D85C6ECB4CF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7"/>
          <p:cNvSpPr/>
          <p:nvPr/>
        </p:nvSpPr>
        <p:spPr>
          <a:xfrm>
            <a:off x="380880" y="1752480"/>
            <a:ext cx="6858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5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5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5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5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5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7" descr="04-M1-p16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304920" y="441360"/>
            <a:ext cx="40384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7000" spc="-1" strike="noStrike">
                <a:solidFill>
                  <a:srgbClr val="000000"/>
                </a:solidFill>
                <a:latin typeface="Arial"/>
              </a:rPr>
              <a:t>Módulo 1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8"/>
          <p:cNvSpPr/>
          <p:nvPr/>
        </p:nvSpPr>
        <p:spPr>
          <a:xfrm>
            <a:off x="4724280" y="457200"/>
            <a:ext cx="4343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0000"/>
                </a:solidFill>
                <a:latin typeface="Arial"/>
              </a:rPr>
              <a:t>Situaciones de crisis y apoyo psico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Factores que afectan el impacto </a:t>
            </a:r>
            <a:br>
              <a:rPr sz="3200"/>
            </a:b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sicosocial de las situaciones de cri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1752480"/>
            <a:ext cx="4419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Características individu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Edad - etapa de la vi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Salud ment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Sistemas de apoyo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Discapacida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Estatus económico-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Religió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Historial de desast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Experiencias traumáticas anterio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562720" y="6248520"/>
            <a:ext cx="3581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480060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Recursos familiares y comunitarios</a:t>
            </a: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Cl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Hora del d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Accesibilidad a la zo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Dimensión de la destrucción fís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Número de mue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Número de muertes infanti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92929"/>
              </a:buClr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292929"/>
              </a:buClr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292929"/>
              </a:buClr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45720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¿Qué es el apoyo psicoso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09480" y="1905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  <a:ea typeface="Arial"/>
              </a:rPr>
              <a:t>El apoyo psicosocial se refiere a las acciones destinadas a atender las necesidades psicológicas y sociales de las personas, familias y com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  <a:ea typeface="Arial"/>
              </a:rPr>
              <a:t>Se puede ofrecer en programas específicos o integrarse en otr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  <a:ea typeface="Arial"/>
              </a:rPr>
              <a:t>El planteamiento de la Federación Internacional con respecto al apoyo psicosocial consiste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  <a:ea typeface="Arial"/>
              </a:rPr>
              <a:t>Un enfoque basado en la comunidad que favorezca la resiliencia de la pobla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  <a:ea typeface="Arial"/>
              </a:rPr>
              <a:t>Una forma de movilizar el poder de la human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292929"/>
                </a:solidFill>
                <a:latin typeface="Arial"/>
                <a:ea typeface="Arial"/>
              </a:rPr>
              <a:t>Un medio de conservar la salud y el bienestar del personal y los volu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¿Por qué se proporciona apoyo psicoso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La movilización de apoyo psicosocial temprano y adecuado puede evitar que la angustia y el sufrimiento se conviertan en algo más gr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El apoyo psicosocial ayuda a que las personas afectadas por situaciones de crisis se repong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"/>
          <p:cNvPicPr/>
          <p:nvPr/>
        </p:nvPicPr>
        <p:blipFill>
          <a:blip r:embed="rId1"/>
          <a:stretch/>
        </p:blipFill>
        <p:spPr>
          <a:xfrm>
            <a:off x="3670200" y="1522440"/>
            <a:ext cx="5473800" cy="5378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irámide de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609480" y="2362320"/>
            <a:ext cx="3429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Pirámide 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intervención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servicios de sal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mental y apo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psicosocial 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casos 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emerg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Experiencias pers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609480" y="2362320"/>
            <a:ext cx="7923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Piensa acerca de una situación en la que una persona que conozcas tuviera un probl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¿Cómo supiste que era necesario ayudar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¿Cómo lograste tú u otros atender esas necesidad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A continuación, comparte tus experiencias con la persona sentada a tu l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152280" y="533520"/>
            <a:ext cx="9068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0000"/>
                </a:solidFill>
                <a:latin typeface="Arial"/>
              </a:rPr>
              <a:t>Necesidades psicosociales loc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Volved a los mismos grupos de 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Identificad las necesidades psicosociales dentro de vuestra com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¿De qué modo se pueden atender? Utilizad ejemplos e ideas de esta sesión.</a:t>
            </a: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A continuación, exponedlos en la sesión plen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Ventajas de volunt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Los voluntarios forman parte de la comunidad lo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Los voluntarios conocen la c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"/>
          <p:cNvPicPr/>
          <p:nvPr/>
        </p:nvPicPr>
        <p:blipFill>
          <a:blip r:embed="rId1"/>
          <a:stretch/>
        </p:blipFill>
        <p:spPr>
          <a:xfrm>
            <a:off x="1743120" y="1724040"/>
            <a:ext cx="5565600" cy="4676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Equiparación de neces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¿Qué son las situaciones de crisi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¿Qué es el apoyo psicosoci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¿Cómo puedes aplicar los conocimientos adquiridos en este módul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"/>
          <p:cNvSpPr/>
          <p:nvPr/>
        </p:nvSpPr>
        <p:spPr>
          <a:xfrm>
            <a:off x="1752480" y="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Situaciones de crisis y apoyo psicosoc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Diferentes tipos de situaciones de cris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Lo que afecta el impacto de las situaciones de cr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El apoyo psicosocial y su obje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Times New Roman"/>
              </a:rPr>
              <a:t>La función de los voluntarios y el personal en el apoyo psico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1405_pp_trainers_A1B2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-1600200" y="-106668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¿Qué es una situación de cri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609480" y="2057400"/>
            <a:ext cx="8283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da-DK" sz="2400" spc="-1" strike="noStrike">
                <a:solidFill>
                  <a:srgbClr val="292929"/>
                </a:solidFill>
                <a:latin typeface="Arial"/>
                <a:ea typeface="Arial"/>
              </a:rPr>
              <a:t>Una situación de crisis es un evento importante fuera del rango de las experiencias normales que vivimos a diario, es extremadamente amenazante para las personas involucradas y va acompañado de sentimientos de impotencia, horror o t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da-DK" sz="2400" spc="-1" strike="noStrike">
                <a:solidFill>
                  <a:srgbClr val="292929"/>
                </a:solidFill>
                <a:latin typeface="Arial"/>
                <a:ea typeface="Arial"/>
              </a:rPr>
              <a:t>Dentro del contexto de las Sociedades Nacionales de la Cruz Roja y de la Media Luna Roja, las personas se enfrentan a situaciones de crisis a diario. Tales situaciones incluyen muertes, accidentes, desastres, enfermedades graves (p. ej., VIH), violaciones y suici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7866000" cy="4794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BASADO EN LA COMUNIDAD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reparación y 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map2"/>
          <p:cNvPicPr/>
          <p:nvPr/>
        </p:nvPicPr>
        <p:blipFill>
          <a:blip r:embed="rId1"/>
          <a:stretch/>
        </p:blipFill>
        <p:spPr>
          <a:xfrm>
            <a:off x="-2413080" y="-81000"/>
            <a:ext cx="12744360" cy="722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illede3"/>
          <p:cNvPicPr/>
          <p:nvPr/>
        </p:nvPicPr>
        <p:blipFill>
          <a:blip r:embed="rId2"/>
          <a:stretch/>
        </p:blipFill>
        <p:spPr>
          <a:xfrm>
            <a:off x="3780000" y="1647720"/>
            <a:ext cx="5002200" cy="37101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10" name="Picture 7" descr="98979"/>
          <p:cNvPicPr/>
          <p:nvPr/>
        </p:nvPicPr>
        <p:blipFill>
          <a:blip r:embed="rId3"/>
          <a:stretch/>
        </p:blipFill>
        <p:spPr>
          <a:xfrm>
            <a:off x="179280" y="1576440"/>
            <a:ext cx="5184720" cy="35319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11" name="Picture 8" descr="Chimbudzi 6215"/>
          <p:cNvPicPr/>
          <p:nvPr/>
        </p:nvPicPr>
        <p:blipFill>
          <a:blip r:embed="rId4"/>
          <a:stretch/>
        </p:blipFill>
        <p:spPr>
          <a:xfrm>
            <a:off x="2195640" y="2367000"/>
            <a:ext cx="5329080" cy="35463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sp>
        <p:nvSpPr>
          <p:cNvPr id="112" name="Text Box 9"/>
          <p:cNvSpPr/>
          <p:nvPr/>
        </p:nvSpPr>
        <p:spPr>
          <a:xfrm>
            <a:off x="395280" y="2008080"/>
            <a:ext cx="180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5724360" y="1216080"/>
            <a:ext cx="28083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492360" y="2008080"/>
            <a:ext cx="23036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PakistanSneReutersGoranTomasevic"/>
          <p:cNvPicPr/>
          <p:nvPr/>
        </p:nvPicPr>
        <p:blipFill>
          <a:blip r:embed="rId5"/>
          <a:stretch/>
        </p:blipFill>
        <p:spPr>
          <a:xfrm>
            <a:off x="3564000" y="1287360"/>
            <a:ext cx="4968720" cy="35467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16" name="Picture 13" descr="focus_8"/>
          <p:cNvPicPr/>
          <p:nvPr/>
        </p:nvPicPr>
        <p:blipFill>
          <a:blip r:embed="rId6"/>
          <a:stretch/>
        </p:blipFill>
        <p:spPr>
          <a:xfrm>
            <a:off x="2411280" y="1287360"/>
            <a:ext cx="5859720" cy="352584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sp>
        <p:nvSpPr>
          <p:cNvPr id="117" name="Text Box 35"/>
          <p:cNvSpPr/>
          <p:nvPr/>
        </p:nvSpPr>
        <p:spPr>
          <a:xfrm>
            <a:off x="468360" y="-81000"/>
            <a:ext cx="8064360" cy="106884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srael / Austria – Conductores de ambula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6"/>
          <p:cNvSpPr/>
          <p:nvPr/>
        </p:nvSpPr>
        <p:spPr>
          <a:xfrm>
            <a:off x="468360" y="-81000"/>
            <a:ext cx="8064360" cy="106884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inamarca – Línea telefónica para jóvenes que están so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7"/>
          <a:stretch/>
        </p:blipFill>
        <p:spPr>
          <a:xfrm>
            <a:off x="1979640" y="784080"/>
            <a:ext cx="5616720" cy="35737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20" name="Picture 5" descr="URK"/>
          <p:cNvPicPr/>
          <p:nvPr/>
        </p:nvPicPr>
        <p:blipFill>
          <a:blip r:embed="rId8"/>
          <a:stretch/>
        </p:blipFill>
        <p:spPr>
          <a:xfrm>
            <a:off x="1692360" y="420840"/>
            <a:ext cx="5327640" cy="35305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21" name="Picture 6" descr="04iraq"/>
          <p:cNvPicPr/>
          <p:nvPr/>
        </p:nvPicPr>
        <p:blipFill>
          <a:blip r:embed="rId9"/>
          <a:stretch/>
        </p:blipFill>
        <p:spPr>
          <a:xfrm>
            <a:off x="2411280" y="1071720"/>
            <a:ext cx="5256360" cy="35827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22" name="Picture 14" descr="_JDA3022"/>
          <p:cNvPicPr/>
          <p:nvPr/>
        </p:nvPicPr>
        <p:blipFill>
          <a:blip r:embed="rId10"/>
          <a:stretch/>
        </p:blipFill>
        <p:spPr>
          <a:xfrm>
            <a:off x="2195640" y="1216080"/>
            <a:ext cx="5400720" cy="36021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23" name="Picture 15" descr="Rusland"/>
          <p:cNvPicPr/>
          <p:nvPr/>
        </p:nvPicPr>
        <p:blipFill>
          <a:blip r:embed="rId11"/>
          <a:stretch/>
        </p:blipFill>
        <p:spPr>
          <a:xfrm>
            <a:off x="2771640" y="568440"/>
            <a:ext cx="4972320" cy="361944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sp>
        <p:nvSpPr>
          <p:cNvPr id="124" name="Text Box 16"/>
          <p:cNvSpPr/>
          <p:nvPr/>
        </p:nvSpPr>
        <p:spPr>
          <a:xfrm>
            <a:off x="4643280" y="63360"/>
            <a:ext cx="2521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4284720" y="92700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4140360" y="100008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4427640" y="42372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3780000" y="56844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4140360" y="100008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276720" y="-15228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3419640" y="35100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4140360" y="100008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468360" y="-81000"/>
            <a:ext cx="8028000" cy="55872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lvl="2" marL="12574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Bam / Pakistán – Terremot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468360" y="-81000"/>
            <a:ext cx="8028000" cy="55872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lvl="2" marL="12574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Beslán – Masacre esco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468360" y="-81000"/>
            <a:ext cx="8064360" cy="55872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lvl="2" marL="12574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Zimbabue/Sudáfrica – VIH/S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Bulgaria - Tráfico de person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alestina - CABA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lombia - Desplazados int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2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ndonesia / Sri Lanka – Tsun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3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iria –  Refugiados iraquí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5" descr="00014293-INS-Lebanon-005"/>
          <p:cNvPicPr/>
          <p:nvPr/>
        </p:nvPicPr>
        <p:blipFill>
          <a:blip r:embed="rId12"/>
          <a:stretch/>
        </p:blipFill>
        <p:spPr>
          <a:xfrm>
            <a:off x="2484360" y="1143000"/>
            <a:ext cx="4969080" cy="359100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sp>
        <p:nvSpPr>
          <p:cNvPr id="142" name="Text Box 34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íbano –  Conflicto arm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map2"/>
          <p:cNvPicPr/>
          <p:nvPr/>
        </p:nvPicPr>
        <p:blipFill>
          <a:blip r:embed="rId13"/>
          <a:stretch/>
        </p:blipFill>
        <p:spPr>
          <a:xfrm>
            <a:off x="-2438280" y="-133200"/>
            <a:ext cx="12725280" cy="72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7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3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1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6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1405_pp_trainers_A1B2"/>
          <p:cNvPicPr/>
          <p:nvPr/>
        </p:nvPicPr>
        <p:blipFill>
          <a:blip r:embed="rId1"/>
          <a:stretch/>
        </p:blipFill>
        <p:spPr>
          <a:xfrm>
            <a:off x="0" y="-10620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8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9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¿Qué hace que las situaciones sean crític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09480" y="2362320"/>
            <a:ext cx="8066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292929"/>
                </a:solidFill>
                <a:latin typeface="Arial"/>
                <a:ea typeface="Arial"/>
              </a:rPr>
              <a:t>Trabajad en pare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292929"/>
                </a:solidFill>
                <a:latin typeface="Arial"/>
                <a:ea typeface="Arial"/>
              </a:rPr>
              <a:t>Debatid las siguientes cuest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292929"/>
                </a:solidFill>
                <a:latin typeface="Arial"/>
                <a:ea typeface="Arial"/>
              </a:rPr>
              <a:t>Pensad en una situación de crisis dentro de vuestra comunidad que haya ocurrido en los últimos tres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292929"/>
                </a:solidFill>
                <a:latin typeface="Arial"/>
                <a:ea typeface="Arial"/>
              </a:rPr>
              <a:t>¿Cuáles fueron las características de la situ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292929"/>
                </a:solidFill>
                <a:latin typeface="Arial"/>
                <a:ea typeface="Arial"/>
              </a:rPr>
              <a:t>¿Qué factores la convirtieron en una situación crít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292929"/>
                </a:solidFill>
                <a:latin typeface="Arial"/>
                <a:ea typeface="Arial"/>
              </a:rPr>
              <a:t>¿Qué factores incrementaron el impacto psicosocial de la situ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752480" y="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0" y="457200"/>
            <a:ext cx="9067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0000"/>
                </a:solidFill>
                <a:latin typeface="Arial"/>
              </a:rPr>
              <a:t>¿Qué es lo que aumenta el impacto psicosocial de una crisi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Trabajad en grupos de tres o cua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Leed el estudio de ca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Debatid qué factores incrementaron el impacto psicosocial de las situa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5187960" y="152280"/>
            <a:ext cx="32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0880" y="2057400"/>
            <a:ext cx="3505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Características del ev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Ambiente de crisis y posterior a la cr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Características individu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Recursos familiares y comunit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05-M1-p19"/>
          <p:cNvPicPr/>
          <p:nvPr/>
        </p:nvPicPr>
        <p:blipFill>
          <a:blip r:embed="rId3"/>
          <a:stretch/>
        </p:blipFill>
        <p:spPr>
          <a:xfrm>
            <a:off x="3733920" y="205740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Factores que afectan el impacto </a:t>
            </a:r>
            <a:br>
              <a:rPr sz="3200"/>
            </a:b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sicosocial de las situaciones de cri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 COMUNITARIO · MÓDU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Factores que afectan el impacto </a:t>
            </a:r>
            <a:br>
              <a:rPr sz="3200"/>
            </a:b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sicosocial de las situaciones de cri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0" y="1752480"/>
            <a:ext cx="4419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Características del su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Natural frente a provocado por el hombr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Intencional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Grado de capacidad de prevenció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Alcance del impac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Sufrimi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Grado de expectati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Duración del suces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5562720" y="6248520"/>
            <a:ext cx="3581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480060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292929"/>
                </a:solidFill>
                <a:latin typeface="Arial"/>
                <a:ea typeface="Arial"/>
              </a:rPr>
              <a:t>Entorno de la crisis/posterior a la crisis</a:t>
            </a: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Cl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Hora del d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Accesibilidad a la zo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Dimensión de la destrucción fís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Número de mue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100" spc="-1" strike="noStrike">
                <a:solidFill>
                  <a:srgbClr val="292929"/>
                </a:solidFill>
                <a:latin typeface="Arial"/>
                <a:ea typeface="Arial"/>
              </a:rPr>
              <a:t>Número de muertes infanti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92929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292929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292929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45720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Martha Bird</cp:lastModifiedBy>
  <dcterms:modified xsi:type="dcterms:W3CDTF">2012-11-26T15:37:22Z</dcterms:modified>
  <cp:revision>52</cp:revision>
  <dc:subject/>
  <dc:title>PowerPoint Presentation</dc:title>
</cp:coreProperties>
</file>