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345ED-31F2-4F50-84A0-18402467C89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dsholder til dias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9B63F-9822-4B60-A00C-31FB8B2531E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BDD0-A100-417F-A7DC-3EFBEE35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06280"/>
            <a:ext cx="8229600" cy="19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58360"/>
            <a:ext cx="8229600" cy="19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2515-A4D7-4D49-A6ED-077415B4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06280"/>
            <a:ext cx="4015800" cy="19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06280"/>
            <a:ext cx="4015800" cy="19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58360"/>
            <a:ext cx="4015800" cy="19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58360"/>
            <a:ext cx="4015800" cy="19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0983-AA0C-42BB-AB9B-83B41650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06280"/>
            <a:ext cx="2649600" cy="19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06280"/>
            <a:ext cx="2649600" cy="19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06280"/>
            <a:ext cx="2649600" cy="19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58360"/>
            <a:ext cx="2649600" cy="19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58360"/>
            <a:ext cx="2649600" cy="19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58360"/>
            <a:ext cx="2649600" cy="19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9C9D-D0B9-4611-8FF6-358ED94E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06280"/>
            <a:ext cx="82296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1E6A-244A-4495-8483-075537DA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06280"/>
            <a:ext cx="822960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711C-6226-4D60-83E9-341D4CE1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06280"/>
            <a:ext cx="401580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06280"/>
            <a:ext cx="401580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74AE-EA57-4BF7-9DAD-9A09CB2F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A851-E114-40ED-89AE-142867E3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9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DA82-8D04-4894-82C0-1D4B87D4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06280"/>
            <a:ext cx="4015800" cy="19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06280"/>
            <a:ext cx="401580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58360"/>
            <a:ext cx="4015800" cy="19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411B-46A4-4A7F-BA34-BBC0FC41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06280"/>
            <a:ext cx="401580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06280"/>
            <a:ext cx="4015800" cy="19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58360"/>
            <a:ext cx="4015800" cy="19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527B-984B-43C5-8C6E-758528EE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06280"/>
            <a:ext cx="4015800" cy="19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06280"/>
            <a:ext cx="4015800" cy="19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58360"/>
            <a:ext cx="8229600" cy="19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3FFA-AB52-4D5F-9455-53EFCF96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illed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006280"/>
            <a:ext cx="822960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73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D962C2-8AC5-43BB-B9D2-6A73312C810E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46240" y="62737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5916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61EEA-E6C0-40CE-BAFA-DE8B49522F6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RIVILLIG RÅDGIVNING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 2-DAGES UNDERVISNINGSWORKS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758514-C420-484E-A985-6DFDB3DC8E8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finition af frivillig rådgivning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044800" y="2806200"/>
            <a:ext cx="664200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ktiv ly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dveksling af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øtte af informationsbaserede beslutnin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94161F-E79C-4A4B-9959-606B9796384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 frivillig rådgivers mål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44160" y="2501640"/>
            <a:ext cx="7442280" cy="36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gøre enkeltpersonen i stand til at mestre stressfulde og kritiske situatio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g/e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nvise til andre, når det er nødvendig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632D6A-5339-47F2-950E-317BB018E35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m frivillig rådgiver bør du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006280"/>
            <a:ext cx="822960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 følelsesmæssig og praktisk støt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ytte og trøste mennesker under st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 hjælp til selvhjæl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 den hjælpsøgende den inform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dkommende har brug f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jælpe mennesker med adgang til basale nødvendighe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nvise til mere specialiseret omsorg, hvis det er nødvendig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jælpe mennesker med at træffe beslutninger o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løse problem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 sammen med den hjælpsøgend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 ikke handle for vedkommen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6E87EE-5984-4449-9909-48BCB94E3A3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ør ikke skad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83920" y="2006280"/>
            <a:ext cx="81025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Hvad du ikke bør gø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træde reglen om tavshedsplig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ælle et andet menneske, hvad vedkommende skal gøre, eller hvordan problemer skal lø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nske for dyb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dvise mangel på respek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ndle som psykoterape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 løfter, du ikke kan hol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228EE-3A67-4931-973A-8C6F5F2DD9F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rivillig rådgivning: Modul 4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nvisninger og rapport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047D2-06AD-4B7D-BD6C-48C06638DF1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envisning i din organisation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476440"/>
            <a:ext cx="822960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durer og protoko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grænsninger i rollen som frivillig rådgi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den om, hvornår man skal henvise til and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dfordringer vedrørende henvisn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4FD72-1C7A-4C04-BFA5-FE043A827DD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øde flag - alvorlige advarselstegn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r den hjælpsøgen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vorligt handicappet - næsten ude af stand til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 tage vare på sig selv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gang med at skade sig selv – selvdestruktiv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selvmordstanke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gang med at skade andr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4681F9-0E7D-4623-B702-6284A4A2819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rivillig rådgivning: Modul 5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mmunikation – basale færdighe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A85EA-676C-46D8-BC3D-D0DFBBF047A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6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erneværdier inden for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rivillig rådgivning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671560"/>
            <a:ext cx="822960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Empati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– at se og føle ting fra andres synspunkt og forstå, hvordan det er at være det mennesk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Respek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– varmhjertet accept af de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jælpsøgende, at møde vedkommend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 et ligeværdigt mennesk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 være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ægt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– at være ærlig mod sig sel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4154C5-14E8-4EB2-A2B0-FB1B7E5419C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øtte beslutningstagning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006280"/>
            <a:ext cx="822960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ydeliggøre spørgsmål og give relevant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aktisk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øtte identifikation af mulige løsninge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r og nu” og prøve at vejlede i at undgå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 træffe livsændrende beslutning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dsage, støtte og instruere snarere end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 give direkte rå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22CB84-C5C0-4ADF-B84B-E9162DD6CD7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rivillig rådgivning: Modul 1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96960" y="2800440"/>
            <a:ext cx="5362560" cy="33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lkomst og introduktio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visningsprogramm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undlæggende reg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14A1CA-3A0A-4B78-90DE-003E39C443A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lementer i aktiv lytning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856880"/>
            <a:ext cx="812484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orsøg at få fuld forståels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f den hjælpsøgendes synsvink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entag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vad den hjælpsøgende har sagt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g spørg, om du har forstået det rigtig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psumme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il sidst, hvad du har forstået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Undersøg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n følelsesmæssige sid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f problemet grundig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øv at finde løsninge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ammen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me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den hjælpsøgende, ikk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vedkommen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3D1917-0A04-426E-AE3D-F6FB6232225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ådan lytter du aktiv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20560" y="1833480"/>
            <a:ext cx="816624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Oprethold øjenkontakt (hvis det er kulturelt passende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kuser på den hjælpsøgende,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og giv vedkommende plads til at tal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Gør brug af opklarende spørgsmål og opsummerende udsagn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Undgå at give udtryk for meninger, diskutere eller sympatiser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Undgå at blive distrahere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kuser på, hvad den hjælpsøgende siger, snarere end at gætte eller forberede dig på, hvad du selv vil sige som det næste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Brug dit kropssprog til at udtrykke din opmærksom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Brug ord som “ja”, “hm” og “fortsæt”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Brug passende ansigtsudtryk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Hav en afslappet og åben kropsholdning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Vær vågen og opmærksom – oprethold et højt energiniveau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ag tid til stilhed og eftertanke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B44B0-7943-4962-9E3A-F2AC68C0286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rivillig rådgivning: Modul 6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kturering af en rådgivningssamta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082B31-0569-4A24-8D13-E0B105ADC16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Åbning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31840" y="2819160"/>
            <a:ext cx="665496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“sætte scene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trakt eller af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A2272-AB83-4443-99FD-8F6547BF7F3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viewteknikker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30320" y="2451240"/>
            <a:ext cx="675648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lek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ille spørgsmål ved brug a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dsa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kkede spørgsmå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åbne spørgsmå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dende spørgsmå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8ED945-D4A7-4769-AAC6-A2D1A94E6B6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1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ak for i dag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og på gensyn i morgen! 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16011F-4044-4E70-B362-CF468EAC4AA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tel 1"/>
          <p:cNvSpPr/>
          <p:nvPr/>
        </p:nvSpPr>
        <p:spPr>
          <a:xfrm>
            <a:off x="685800" y="2130480"/>
            <a:ext cx="7772400" cy="31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Godmorg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og velkommen</a:t>
            </a:r>
            <a:br>
              <a:rPr sz="4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1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E5EBED-24D4-4739-AE2E-E44FDBE3DAE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rivillig rådgivning: Modul 7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sbegivenheder og mest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2C7ED-4D61-4C57-B9BF-1771B344468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tel 1"/>
          <p:cNvSpPr/>
          <p:nvPr/>
        </p:nvSpPr>
        <p:spPr>
          <a:xfrm>
            <a:off x="457200" y="79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Stressniveau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dsholder til indhold 2"/>
          <p:cNvSpPr/>
          <p:nvPr/>
        </p:nvSpPr>
        <p:spPr>
          <a:xfrm>
            <a:off x="1930320" y="2451240"/>
            <a:ext cx="6756480" cy="36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iv st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umulativ st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umatisk st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5B095D-C920-4F8C-A413-EDC8D8EE988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egn på stres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52560" y="193500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vedpin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øvnforstyrrels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æthe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rritabilite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ropssmerte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dsat evne til problemløsn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vt energiniveau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Øget forbrug af stimulanser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 alkohol og toba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AE0742-BE54-4475-90E1-28FD92FB141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ndervisningsprogram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BBA13-3957-4F8D-B70B-E9010CE6EC6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978200"/>
          <a:ext cx="4165560" cy="4281480"/>
        </p:xfrm>
        <a:graphic>
          <a:graphicData uri="http://schemas.openxmlformats.org/drawingml/2006/table">
            <a:tbl>
              <a:tblPr/>
              <a:tblGrid>
                <a:gridCol w="1050840"/>
                <a:gridCol w="3114720"/>
              </a:tblGrid>
              <a:tr h="336240">
                <a:tc>
                  <a:txBody>
                    <a:bodyPr lIns="108000" rIns="43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ag 1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4400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odu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6560">
                <a:tc>
                  <a:txBody>
                    <a:bodyPr lIns="108000" rIns="43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.00–10.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4400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 Velkomst, introduktioner, undervisningsprogrammet og grundlæggende reg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6240">
                <a:tc>
                  <a:txBody>
                    <a:bodyPr lIns="108000" rIns="43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mbria"/>
                          <a:ea typeface="ヒラギノ角ゴ Pro W3"/>
                        </a:rPr>
                        <a:t>10.00-10.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4400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a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0680">
                <a:tc>
                  <a:txBody>
                    <a:bodyPr lIns="108000" rIns="43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.15–10.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4400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 Vores organisation og dens målgrupp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5880">
                <a:tc>
                  <a:txBody>
                    <a:bodyPr lIns="108000" rIns="43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.55–11.1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4400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a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lIns="108000" rIns="43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.10–12.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4400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 Frivillige rådgiveres rol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7040">
                <a:tc>
                  <a:txBody>
                    <a:bodyPr lIns="108000" rIns="43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.30–13.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4400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rok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7520">
                <a:tc>
                  <a:txBody>
                    <a:bodyPr lIns="108000" rIns="43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.30–13.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4400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. Henvisninger og rapporte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lIns="108000" rIns="43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.55–14.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4400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. Kommunikation – basale færdighe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5880">
                <a:tc>
                  <a:txBody>
                    <a:bodyPr lIns="108000" rIns="43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.55–15.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4400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a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0680">
                <a:tc>
                  <a:txBody>
                    <a:bodyPr lIns="108000" rIns="43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.10–15.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4400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. Strukturering af en rådgivningssamta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lIns="108000" rIns="43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.55–16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4400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fslutning af dag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818240" y="2333520"/>
          <a:ext cx="3560760" cy="3218040"/>
        </p:xfrm>
        <a:graphic>
          <a:graphicData uri="http://schemas.openxmlformats.org/drawingml/2006/table">
            <a:tbl>
              <a:tblPr/>
              <a:tblGrid>
                <a:gridCol w="1117440"/>
                <a:gridCol w="2443320"/>
              </a:tblGrid>
              <a:tr h="335160">
                <a:tc>
                  <a:txBody>
                    <a:bodyPr lIns="108000" rIns="43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ag 2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4400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odu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0320">
                <a:tc>
                  <a:txBody>
                    <a:bodyPr lIns="108000" rIns="43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.00–10.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4400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. Livsbegivenheder og mest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640">
                <a:tc>
                  <a:txBody>
                    <a:bodyPr lIns="108000" rIns="43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.45–11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4400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a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4080">
                <a:tc>
                  <a:txBody>
                    <a:bodyPr lIns="108000" rIns="43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.00–12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4400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. Livsbegivenheder og mestring - forts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3360">
                <a:tc>
                  <a:txBody>
                    <a:bodyPr lIns="108000" rIns="43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.00–13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4400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rok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108000" rIns="43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.00–14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4400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. Psykologisk førstehjæl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8440">
                <a:tc>
                  <a:txBody>
                    <a:bodyPr lIns="108000" rIns="43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.00–14.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4400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a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6080">
                <a:tc>
                  <a:txBody>
                    <a:bodyPr lIns="108000" rIns="43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.15–15.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4400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. Egenomso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0520">
                <a:tc>
                  <a:txBody>
                    <a:bodyPr lIns="108000" rIns="43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.15–15.3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4400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. Evaluering og afsk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69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lmindelige reaktioner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å massiv stres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36A50B-309A-4E18-AB35-19F868E2416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581040" y="2467080"/>
            <a:ext cx="4305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g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Konstant årvågen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skrækkede reaktio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Lav koncentrationsev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Genoplevelse af situat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ky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4886280" y="2452680"/>
            <a:ext cx="368640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Trist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V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ølelsesmæssig lamm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Tilbagetrukke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kuff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Undgåelsesadfærd</a:t>
            </a: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pbygning af modstandsdygtighed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58720" y="2184120"/>
            <a:ext cx="81280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Udtryk for erfaringsudveksling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Følelsesmæssig og praktisk støtte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Følelse af tryghed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Beroligelse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amfunds- og selvtillid (følelse af kontrol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Forbundethed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ndgydning af håb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007525-7A52-463E-BF95-15E9964435F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string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52560" y="2006280"/>
            <a:ext cx="773424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tring er en konstant proces af kognitiv (f.eks. tanker og viden), følelsesmæssig og adfærdsmæssig tilpasning for at kunne håndtere eller styre ubehagelige ell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da ulykkelige begivenheder, tilstand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g situation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22527C-3AC0-406C-B1CF-8084583AF66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rg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96880" y="2412720"/>
            <a:ext cx="8089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rg er en reaktion på tabet af nog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ler noge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 tab kan føre til andre ta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rg er en proces, der tager tid o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olverer læringserfaring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427884-5920-4096-ACCA-98B9351B4CC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lmindelige reaktioner på sorg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CF5658-BBCD-40CE-AB2A-15E0FA38163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"/>
          <p:cNvSpPr/>
          <p:nvPr/>
        </p:nvSpPr>
        <p:spPr>
          <a:xfrm>
            <a:off x="576360" y="2352600"/>
            <a:ext cx="36338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3000" spc="-1" strike="noStrike">
                <a:solidFill>
                  <a:srgbClr val="000000"/>
                </a:solidFill>
                <a:latin typeface="Arial"/>
              </a:rPr>
              <a:t>Depressive følels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3000" spc="-1" strike="noStrike">
                <a:solidFill>
                  <a:srgbClr val="000000"/>
                </a:solidFill>
                <a:latin typeface="Arial"/>
              </a:rPr>
              <a:t>Ændring i aktivitetsnivea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3000" spc="-1" strike="noStrike">
                <a:solidFill>
                  <a:srgbClr val="000000"/>
                </a:solidFill>
                <a:latin typeface="Arial"/>
              </a:rPr>
              <a:t>Rastløsh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3000" spc="-1" strike="noStrike">
                <a:solidFill>
                  <a:srgbClr val="000000"/>
                </a:solidFill>
                <a:latin typeface="Arial"/>
              </a:rPr>
              <a:t>Mistet appet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3000" spc="-1" strike="noStrike">
                <a:solidFill>
                  <a:srgbClr val="000000"/>
                </a:solidFill>
                <a:latin typeface="Arial"/>
              </a:rPr>
              <a:t>Søvnløsh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4210200" y="2352600"/>
            <a:ext cx="44766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3000" spc="-1" strike="noStrike">
                <a:solidFill>
                  <a:srgbClr val="000000"/>
                </a:solidFill>
                <a:latin typeface="Arial"/>
              </a:rPr>
              <a:t>Hovedp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3000" spc="-1" strike="noStrike">
                <a:solidFill>
                  <a:srgbClr val="000000"/>
                </a:solidFill>
                <a:latin typeface="Arial"/>
              </a:rPr>
              <a:t>Tviv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3000" spc="-1" strike="noStrike">
                <a:solidFill>
                  <a:srgbClr val="000000"/>
                </a:solidFill>
                <a:latin typeface="Arial"/>
              </a:rPr>
              <a:t>Koncentrationsbesvæ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3000" spc="-1" strike="noStrike">
                <a:solidFill>
                  <a:srgbClr val="000000"/>
                </a:solidFill>
                <a:latin typeface="Arial"/>
              </a:rPr>
              <a:t>Træth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3000" spc="-1" strike="noStrike">
                <a:solidFill>
                  <a:srgbClr val="000000"/>
                </a:solidFill>
                <a:latin typeface="Arial"/>
              </a:rPr>
              <a:t>Grå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3000" spc="-1" strike="noStrike">
                <a:solidFill>
                  <a:srgbClr val="000000"/>
                </a:solidFill>
                <a:latin typeface="Arial"/>
              </a:rPr>
              <a:t>Vre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3000" spc="-1" strike="noStrike">
                <a:solidFill>
                  <a:srgbClr val="000000"/>
                </a:solidFill>
                <a:latin typeface="Arial"/>
              </a:rPr>
              <a:t>Fremmedgørel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dvarselstegn på selvmord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520" y="1934640"/>
            <a:ext cx="8153280" cy="44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ale om at begå selvmord eller skade sig selv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dtrykke stærke følelser af håbløshed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ller af at være fanget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n usædvanlig optagethed af død og af det at d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etsindig adfærd, som om vedkommende har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t ønske om at dø (f.eks. at køre over for rødt lys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inge til eller besøge andre for at tage afsked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ringe orden i sine ting (give kære ting væk,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fslutte løse ender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ge ting som: “Det ville være bedre for alle, hvis jeg ikke var her” eller “Jeg vil gerne væk herfra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n pludselig ændring fra at være yderst deprimeret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il at reagere roligt og tilfred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5E94F-87F6-4D2C-A091-918900297F8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rivillig rådgivning: Modul 8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sykologisk førstehjælp (PF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120856-6B4A-4664-9FCB-FEC61350E80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sale elementer i PFH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28880" y="2006280"/>
            <a:ext cx="76579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bliv tæt p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yt opmærkso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pter føle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 generel omsorg og praktisk hjæl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AB5A46-82C4-4BA0-A60D-23A378C9B2E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FH trin for trin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E0A8A-0785-4A91-9CC8-476BFC05567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663200" y="2006280"/>
            <a:ext cx="702324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g kontak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rethold sikker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ørg for fred og uforstyrreth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aktisk omsor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y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olig og normaliser følels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jælp med at prioritere beho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g kontakt til pårøren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 in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rivillig rådgivning: Modul 9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genoms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334B8-D164-488D-BE21-1521B9A7382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rivillig rådgivning: Modul 2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res organisation o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 målgru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DB20F-D6C6-458A-82B6-8AFD043478D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kundær traumatisering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006280"/>
            <a:ext cx="822960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kundær traumatiser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 en gradvis nedsættelse af medfølelse over for de hjælpsøgende. Den kan omfatte følelser af hjælpeløshed og håbløshed i ens arbejde, negative holdninger over for hjælpsøgende, tvivlen på sig selv og følelse af inkompeten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D597A2-884E-4DD2-BD42-D986811E272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dbrændthed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866600"/>
            <a:ext cx="822960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dbrændth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r en tilstand af fysisk og følelsesmæssig udmattelse, der skyldes kronisk arbejdsstres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 er karakteriseret v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ølelsesmæssig udmattel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dsat ener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b af entusiasme og moti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dsat arbejdseffektivit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ssimisme og kynis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ste følelsen af personlige resultater i ens arbej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A4FDA7-3824-4031-A3D9-FD89EF6C369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resshåndtering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250800" y="2526840"/>
            <a:ext cx="25686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Strategier: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ø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EF06FA-CBAD-4B85-9014-888EB066FBD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ollegial støtt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2006280"/>
            <a:ext cx="822960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erneelement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kymring, medfølelse, respekt og till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ktiv lytning og kommunik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lare ro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mwork, samarbejde og problemløs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sion af arbejdsopleve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405D74-861B-4B91-AE3A-6F68D9C02D7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rivillig rådgivning: Modul 10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D3F1AE-14BB-4B6F-B479-82A2FA359CB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651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Mange tak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og farvel!</a:t>
            </a:r>
            <a:endParaRPr b="1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1E62B-9102-4CDB-B34E-40436CF384A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ores organisation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006280"/>
            <a:ext cx="822960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ål (dens mission og vision)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vorfor og hvornår blev organisationen stifte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vilken slags støtt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vem er de hjælpsøgend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rsonalets og de frivilliges roll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 frivillige rådgiveres/organisationens forventninger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øttetilbud til frivillige rådgiver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3840A-BAC0-4857-AC68-D7A843385C8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vem er de hjælpsøgende?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320480" y="2006280"/>
            <a:ext cx="7365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hjælpsøgendes egenskab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iske problem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vilken slags støtte kan  den hjælpsøgende have behov f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49488F-5CFF-4AAC-BAC6-FF3601B4EA7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rivillig rådgivning: Modul 3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ivillige rådgiveres rol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0BAA25-7D5C-4D8E-AA5B-B814A75D297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syko-social støtt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828440"/>
            <a:ext cx="822960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tyder handlinger, som opfylder sociale og psykologiske behov hos enkeltpersoner, i familier eller samfund, og som har til formål at øge menneskers mulighed for at komme tilbage og genoprette normale tilstande efter svære oplevels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Psykologiske dimensione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 interne, emotionelle og tankemæssige processer, følelser og reaktio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Sociale dimension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= relationer, familie- og samfundsnetværk, sociale værdier og kulturelle praksiss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FE559B-419C-4C8D-886F-1C444AFE62E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ladsholder til indhold 4" descr=""/>
          <p:cNvPicPr/>
          <p:nvPr/>
        </p:nvPicPr>
        <p:blipFill>
          <a:blip r:embed="rId1"/>
          <a:stretch/>
        </p:blipFill>
        <p:spPr>
          <a:xfrm>
            <a:off x="1676520" y="1581120"/>
            <a:ext cx="5715000" cy="5060880"/>
          </a:xfrm>
          <a:prstGeom prst="rect">
            <a:avLst/>
          </a:prstGeom>
          <a:ln w="0">
            <a:noFill/>
          </a:ln>
        </p:spPr>
      </p:pic>
      <p:sp>
        <p:nvSpPr>
          <p:cNvPr id="75" name="Pladsholder til diasnummer 3"/>
          <p:cNvSpPr/>
          <p:nvPr/>
        </p:nvSpPr>
        <p:spPr>
          <a:xfrm>
            <a:off x="69595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18152-D944-4BB0-B223-2A6F38D3BF1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ASC Interventionspyramid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9T19:07:49Z</dcterms:created>
  <dc:creator>Wendy Ager</dc:creator>
  <dc:description/>
  <dc:language>en-US</dc:language>
  <cp:lastModifiedBy>Cecilie Fernandez</cp:lastModifiedBy>
  <cp:lastPrinted>2013-01-10T17:53:09Z</cp:lastPrinted>
  <dcterms:modified xsi:type="dcterms:W3CDTF">2013-09-12T09:48:01Z</dcterms:modified>
  <cp:revision>101</cp:revision>
  <dc:subject/>
  <dc:title>Lay Counselling: Module 1</dc:title>
</cp:coreProperties>
</file>