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1AE0-8DB6-41EC-AD03-24716EED319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ing the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000" spc="-1" strike="noStrike">
                <a:solidFill>
                  <a:srgbClr val="000000"/>
                </a:solidFill>
                <a:latin typeface="Arial"/>
              </a:rPr>
              <a:t>Opening and closing a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cebr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about psychosocial support involves learning about psychological processes and relates to personal feelings and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66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Create a safe environment: what is said in the room is confidential and stays in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Everybody has the right to speak but nobody is obligated to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All contributions are to be received in an appreciat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There is no right or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Discuss rules for interacting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Discuss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e1c1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1c11"/>
                </a:solidFill>
                <a:latin typeface="Arial"/>
                <a:ea typeface="Arial"/>
              </a:rPr>
              <a:t>Present and discuss the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838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tting th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ticipants need to feel that the day has come to a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ke a summary of the content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k if there are an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 a recap in plenary by the end of the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 through the programme for the follow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762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</a:rPr>
              <a:t>Ending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ake time to end the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valuate; written or orally, individual or in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both a questionnaire and feedback through plenary are used, handout the questionnair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25440" y="70956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ing the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ANNEX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828440"/>
            <a:ext cx="6248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cilitator can give a speech and hand out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 a final activity together (such as singing a so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ke time for everyone to say goodbye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82224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ying good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8:58:37Z</dcterms:modified>
  <cp:revision>34</cp:revision>
  <dc:subject/>
  <dc:title>PowerPoint Presentation</dc:title>
</cp:coreProperties>
</file>