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0292-7D56-4B2C-9DE3-E350786DFD12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Australian Red Cross (2009 bushfire respon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Jakob Dall/Danish Red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Åsta Ytre/PS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Lars Møller/Danish Red 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Åsta Ytre/PS Centre (from Georgia after 2008 confli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441360"/>
            <a:ext cx="4038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odule 5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8320" y="45720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600" spc="-1" strike="noStrike">
                <a:solidFill>
                  <a:srgbClr val="000000"/>
                </a:solidFill>
                <a:latin typeface="Arial"/>
              </a:rPr>
              <a:t>Psychological first aid and supportiv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ey values in supportive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6782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mpathy is the ability to see and feel from the affected person’s point of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Respect will allow you to listen and not make assum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When communicating, keep in mind the need to empower the affected pe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Be sure to take a non-judgemental 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Responding in a cri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Be constructive and focus on recent actions that can b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Respond with general statements instead of asking questions or giving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Focus on the person’s thoughts and feel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Give supportive feedback without jud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Ask open-end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Concentrate on what the person is s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5499000" cy="220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Non-verbal communicati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Non-verbal communication is just as important as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Some good tip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Face the 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Display an open posture, especially with your a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Keep an appropriate distance: proximity reflects interest, but may also communicate intimacy, informality or push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Make frequent non-intrusive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Be particularly aware of different cultural practices with this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92929"/>
                </a:solidFill>
                <a:latin typeface="Arial"/>
              </a:rPr>
              <a:t>Appear calm and rela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istening and respo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447920"/>
            <a:ext cx="6324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ork in groups of thre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sume the following roles: Helper, recipient, ob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recipient shares an issue, related to his/her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helper should practise all the skills learned so f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observer should give feedback to the hel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ersonal communication sk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4479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y in the same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cuss the following ques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you are working as a helper, what communication skills do you ne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values are the most important in the situations where these skills are need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Ethical condu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0" y="175212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Do no h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 trustworthy and keep your word with appropriate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Never exploit your relatio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Respect a person’s right to make his/her own dec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Never exaggerate your skills or compe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 aware of your own biases and preju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" y="2008080"/>
            <a:ext cx="4724280" cy="340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76520" y="150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upport group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sychosocial well-being often flows from experiences of community participation and co-operative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eople who feel a sense of belonging within an effective group derive a sense of membership and wo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Establishing a support group is inexpensive and relatively si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Rely primarily upon assisting people at the community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Become comfortable and effective in working with various sizes of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Define a target group around an issue for which there is sufficient interest to motivate significant particip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cilitating support grou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</a:rPr>
              <a:t>Crucial factors in this proc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A good facilitator; knowledgeable in group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Regularly scheduled meetings at an accessible 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Groups based on community members’ needs and des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1905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205740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are the four elements of psychological first ai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does supportive communication mea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are support groups and how do they wor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ychological first aid and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pportive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sychological first ai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upportiv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elephone support and facilitating support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ychological first aid and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pportive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da-DK" sz="2600" spc="-1" strike="noStrike">
                <a:solidFill>
                  <a:srgbClr val="292929"/>
                </a:solidFill>
                <a:latin typeface="Arial"/>
              </a:rPr>
              <a:t>Active listening is the core element of psychological first 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Knowing the starting poi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In order to truly succeed in leading a person to a certain place, first and foremost you must be mindful of finding him where he is right now and then begin from the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292929"/>
                </a:solidFill>
                <a:latin typeface="Arial"/>
              </a:rPr>
              <a:t>- Søren Kierkegaard, Danish 19th century philosop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pai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One person tells the other a personal story</a:t>
            </a:r>
            <a:br>
              <a:rPr sz="2600"/>
            </a:b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- not necessarily about a crisis ev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The other person listens actively by asking clarifying and summarizing ques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When is psychological first aid need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10080" y="228564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First 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ome vis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elephone and online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2163600"/>
            <a:ext cx="5041800" cy="3780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89744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sychological first a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76560" y="18288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Active listening – the key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Stay close - being near is a sign of c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Accept feelings – accept the affected person’s interpretation of the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Provide general care and practical help – this is also a way of showing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syhological reactions and respo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7040520" cy="4683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Providing psychological first a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752480"/>
            <a:ext cx="6858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Divide into groups of th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Read the scena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Agree on ro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Cecilia who needs psychological first 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Helper supports the recip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Observer notes elements of psychological first aid in the inte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Paramedia Paramedia</cp:lastModifiedBy>
  <dcterms:modified xsi:type="dcterms:W3CDTF">2009-05-03T10:51:17Z</dcterms:modified>
  <cp:revision>65</cp:revision>
  <dc:subject/>
  <dc:title>PowerPoint Presentation</dc:title>
</cp:coreProperties>
</file>