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5060-9DBB-4819-8E06-72DDE2F41D2E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Ulrik Norup Jørgensen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try to hide anxiety or sleeping trou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not self-medicate – get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 to work on routine tasks. Tell peers and team leaders about your feelings and needs so they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Heine Pedersen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for a healthy outlet. Write, exercise or play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easy on yourself – it takes time to cope with a distressing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k professional advice – if you still feel uneasy about your feelings after a few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merican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Nejato Emdad Azzire A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7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Supporting volunteers an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nefits of supporting staff and volunte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results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alert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oor jud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creased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as consequences on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ress equals time and money l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ind your notes from the previous act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can the causes of stress you identified be addressed? Use ideas and activities mentioned in this s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scuss your findings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lk to someone with whom you feel at ease, describe your thoughts and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isten to others and share insights with them. What do they say and think about the ev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special care of yourself, eat well, limit alcohol and tobacco and stay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void perfectionist expectations; they often lead to disappointment and confl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r reactions are normal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try to hide feel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o not self-medic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ontinue to work on routine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ok for a healthy out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o easy on your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eek professional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is peer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Teaming of peers into supportive groups that pool their knowledge, perspectives, and experiences for the benefit of each other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group of peers can prov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n informal support group of people who socialise both during and after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 formal framework to discuss work and problem-solv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6120" t="0" r="10601" b="0"/>
          <a:stretch/>
        </p:blipFill>
        <p:spPr>
          <a:xfrm>
            <a:off x="4114800" y="1828800"/>
            <a:ext cx="4876920" cy="389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46483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a peer support program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Support is provided by someone who knows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Assistance can be provided in a short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rompt peer support may prevent other problems from a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ople under stress may just need some short-term help and don’t have major psychologic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Peer support helps people to develop their personal coping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inciples of peer sup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e available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nage the situation and locate resources – find a quiet place and locate relevant people that can help, e.g. family, friends, medical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information – one of the key elements of gaining control is information about the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ssist in establishing self control – treat the person as a colleague or friend, not as a victim. Give encouragement – it is important to encourage positive explanations although not being un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Maintain confidentiality – this is the cornerstone in al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Provide follow up in a non-intrusiv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istening and 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9480" y="2362320"/>
            <a:ext cx="769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ole play in groups of thre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ssume the following roles - helper, recipient and ob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recipient shares a work-related iss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helper should practice active listening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observer provides feed-back on the exerc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98108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ummarize individually key points covered and note d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vide into groups of four to five and agree on the 3 most important messages of th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eedback in ple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pporting volunteers and sta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igns of stress and burn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w staff and volunteers can help colleagues and themsel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at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ink about situations where you or others  experienced stress over a sustained period of time at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triggered the stres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ow was it manifes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tress questionna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Fill in the questionnaire handed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dd up your s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Share your results in plenary afterwards if you feel lik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251160" cy="487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720" y="16765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oor preparation and brief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a part of a collective cr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rolonged exposure to a disaster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hysically difficult, exhausting, and dangerous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Lack of sleep and feeling chronically fatig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inadequate in dealing with the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moral and ethical dilem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frustrated by policies / decisions of super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386160" cy="5105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auses of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920" y="17524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detached from your support system (home and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unsupported at your work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acing the perceived inability to never do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ing exposed to the anger / apparent lack of gra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Unclear, inadequate or inconsistent 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Feeling guilt over access to food, shelter, and other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uidance and support from team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ncourage and support your co-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spect confidentiality so that people can feel safe admitting stress and seeking help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Openly talk and share your problems without fearing the con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w to manage helpers’ stress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mphasize self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ake a break when you feel your tolerance diminis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ay in touch with family and fri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fuse briefly whenever you experience troubling incidents and after each work shi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Create a peer support system for sharing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Burn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n emotional state due to long-term stress, characterized by chronic emotional exhaustion, depleted energy, impaired enthusiasm and motivation to work, diminished work efficiency, a diminished sense of personal accomplishment and pessimism and cynicis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9:44:42Z</dcterms:modified>
  <cp:revision>36</cp:revision>
  <dc:subject/>
  <dc:title>PowerPoint Presentation</dc:title>
</cp:coreProperties>
</file>