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832E-2E67-4D05-8D70-70A6DC80AB4B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C8A3-89BB-45BB-8894-C4455A1AF3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acteristics of critical ev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d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werfu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ually outside the range of ordinary human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a strong emotional effect on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y overwhelm the usually effective coping skills of an individual or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 through the different types of critical events where RCRC does PS work.  Examples of natural disasters, armed conflict, health related crisis, psychological first aid are mapped on the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m/Pakistan – Earthqu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slan – School hostage cr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imbabwe/Southern Africa – HIV/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garia – hotline and counselling for trafficked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lestine – Children Affected By Armed Confl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mbia – Internal Displaced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onesia/Sri Lanka – tsuna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yria – refug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banon – armed confl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rael/Austria – ambulance driv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nmark – hotline for young lonely peop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6996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180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6996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0180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925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6996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80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26996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0180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925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380880" y="1752480"/>
            <a:ext cx="6858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5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5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5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5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5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99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04920" y="441360"/>
            <a:ext cx="40384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7000" spc="-1" strike="noStrike">
                <a:solidFill>
                  <a:srgbClr val="000000"/>
                </a:solidFill>
                <a:latin typeface="Arial"/>
              </a:rPr>
              <a:t>Module 1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724280" y="457200"/>
            <a:ext cx="4343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0000"/>
                </a:solidFill>
                <a:latin typeface="Arial"/>
              </a:rPr>
              <a:t>Crisis events and psychosocial sup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09480" y="1905120"/>
            <a:ext cx="7086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actors affecting the psychosocial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mpact of crisis ev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752480"/>
            <a:ext cx="44197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Individual characterist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  <a:ea typeface="Arial"/>
              </a:rPr>
              <a:t>Age - stage of lif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  <a:ea typeface="Arial"/>
              </a:rPr>
              <a:t>Mental healt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  <a:ea typeface="Arial"/>
              </a:rPr>
              <a:t>Social support system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  <a:ea typeface="Arial"/>
              </a:rPr>
              <a:t>Disabilit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  <a:ea typeface="Arial"/>
              </a:rPr>
              <a:t>Social economic stat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  <a:ea typeface="Arial"/>
              </a:rPr>
              <a:t>Religio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  <a:ea typeface="Arial"/>
              </a:rPr>
              <a:t>Disaster histor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  <a:ea typeface="Arial"/>
              </a:rPr>
              <a:t>Previous traumatic experien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62720" y="6248520"/>
            <a:ext cx="3581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00600" y="1752480"/>
            <a:ext cx="41148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Family and community resources</a:t>
            </a:r>
            <a:r>
              <a:rPr b="0" lang="en-GB" sz="21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  <a:ea typeface="Arial"/>
              </a:rPr>
              <a:t>Weath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  <a:ea typeface="Arial"/>
              </a:rPr>
              <a:t>Time of da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  <a:ea typeface="Arial"/>
              </a:rPr>
              <a:t>Accessibility to are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  <a:ea typeface="Arial"/>
              </a:rPr>
              <a:t>Amount of physical destruc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  <a:ea typeface="Arial"/>
              </a:rPr>
              <a:t>Number of death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  <a:ea typeface="Arial"/>
              </a:rPr>
              <a:t>Number of child death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292929"/>
              </a:buClr>
              <a:buFont typeface="Helvetic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292929"/>
              </a:buClr>
              <a:buFont typeface="Helvetic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292929"/>
              </a:buClr>
              <a:buFont typeface="Helvetic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182880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is psychosocial suppo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1905120"/>
            <a:ext cx="7086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19051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  <a:ea typeface="Arial"/>
              </a:rPr>
              <a:t>Psychosocial support refers to actions that address psychological and social needs of individuals, families and 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  <a:ea typeface="Arial"/>
              </a:rPr>
              <a:t>Psychosocial support can be delivered in specific programmes or be integrated within other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  <a:ea typeface="Arial"/>
              </a:rPr>
              <a:t>The International Federation approach to psychosocial support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29292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  <a:ea typeface="Arial"/>
              </a:rPr>
              <a:t>A community based approach to facilitate the resilience of the affected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29292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  <a:ea typeface="Arial"/>
              </a:rPr>
              <a:t>A way to mobilize the power of human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29292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  <a:ea typeface="Arial"/>
              </a:rPr>
              <a:t>A means of maintaining health and well-being of staff and volunte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29292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 MODUL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y provide psychosocial suppo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1905120"/>
            <a:ext cx="7086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23623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Mobilizing early and adequate psychosocial support can prevent distress and suffering from developing into something more sev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Psychosocial support helps people affected by crises to recov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tervention pyram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1905120"/>
            <a:ext cx="7086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2362320"/>
            <a:ext cx="3429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Intervention pyramid for mental health and psychosocial support in emerg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4419720" y="1676520"/>
            <a:ext cx="36543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ersonal exper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1905120"/>
            <a:ext cx="7086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3623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Think about a situation where a person you know had a proble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How did you know there was a need for help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How did you or others meet those need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Share your experiences with the person next to you afterwar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52280" y="533520"/>
            <a:ext cx="9068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Local psychosocial nee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1905120"/>
            <a:ext cx="7086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23623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Go into the same groups as befo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Identify psychosocial needs in your commun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How can they be addressed? Use examples and ideas from this session.</a:t>
            </a: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Report back in plenary afterwar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d4d4d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 MODUL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dvantages of volunt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1905120"/>
            <a:ext cx="7086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23623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Volunteers are part of the local commun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Volunteers know the cul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atch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1905120"/>
            <a:ext cx="7086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1676520" y="1752480"/>
            <a:ext cx="529272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c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1905120"/>
            <a:ext cx="7086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23623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What are crisis event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What is psychosocial suppor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How can you apply the knowledge from this modul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752480" y="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Crisis events and psychosocial suppo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361960"/>
            <a:ext cx="6248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Different types of crisis ev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292929"/>
                </a:solidFill>
                <a:latin typeface="Arial"/>
              </a:rPr>
              <a:t>What affects the impact of crisis ev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Psychosocial support and its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Times New Roman"/>
              </a:rPr>
              <a:t>The role of volunteers and staff in psychosocia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2240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 MODUL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1600200" y="-106668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905120"/>
            <a:ext cx="7086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is a crisis ev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2057400"/>
            <a:ext cx="7925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292929"/>
                </a:solidFill>
                <a:latin typeface="Arial"/>
                <a:ea typeface="Arial"/>
              </a:rPr>
              <a:t>A crisis event is a major event outside the range of ordinary everyday experience that is extremely threatening to those involved, accompanied by feelings of powerlessness, horror or terror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Within the context of Red Cross Red Crescent National Societies, people are faced with crisis events every day. These events include deaths, accidents, disasters, serious illness (e.g. HIV) , rape, suicid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7238880" cy="4668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Preparedness and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map2"/>
          <p:cNvPicPr/>
          <p:nvPr/>
        </p:nvPicPr>
        <p:blipFill>
          <a:blip r:embed="rId1"/>
          <a:stretch/>
        </p:blipFill>
        <p:spPr>
          <a:xfrm>
            <a:off x="-2413080" y="-81000"/>
            <a:ext cx="12744360" cy="7229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Billede3"/>
          <p:cNvPicPr/>
          <p:nvPr/>
        </p:nvPicPr>
        <p:blipFill>
          <a:blip r:embed="rId2"/>
          <a:stretch/>
        </p:blipFill>
        <p:spPr>
          <a:xfrm>
            <a:off x="3780000" y="1647720"/>
            <a:ext cx="5002200" cy="371016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  <p:pic>
        <p:nvPicPr>
          <p:cNvPr id="110" name="Picture 7" descr="98979"/>
          <p:cNvPicPr/>
          <p:nvPr/>
        </p:nvPicPr>
        <p:blipFill>
          <a:blip r:embed="rId3"/>
          <a:stretch/>
        </p:blipFill>
        <p:spPr>
          <a:xfrm>
            <a:off x="179280" y="1576440"/>
            <a:ext cx="5184720" cy="353196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  <p:pic>
        <p:nvPicPr>
          <p:cNvPr id="111" name="Picture 8" descr="Chimbudzi 6215"/>
          <p:cNvPicPr/>
          <p:nvPr/>
        </p:nvPicPr>
        <p:blipFill>
          <a:blip r:embed="rId4"/>
          <a:stretch/>
        </p:blipFill>
        <p:spPr>
          <a:xfrm>
            <a:off x="2195640" y="2367000"/>
            <a:ext cx="5329080" cy="354636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  <p:sp>
        <p:nvSpPr>
          <p:cNvPr id="112" name="Text Box 9"/>
          <p:cNvSpPr/>
          <p:nvPr/>
        </p:nvSpPr>
        <p:spPr>
          <a:xfrm>
            <a:off x="395280" y="2008080"/>
            <a:ext cx="18003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cc0000"/>
                </a:solidFill>
                <a:latin typeface="Rockwell"/>
                <a:ea typeface="ＭＳ Ｐゴシック"/>
              </a:rPr>
              <a:t>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5724360" y="1216080"/>
            <a:ext cx="28083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cc0000"/>
                </a:solidFill>
                <a:latin typeface="Rockwell"/>
                <a:ea typeface="ＭＳ Ｐゴシック"/>
              </a:rPr>
              <a:t>o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3492360" y="2008080"/>
            <a:ext cx="230364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cc0000"/>
                </a:solidFill>
                <a:latin typeface="Rockwell"/>
                <a:ea typeface="ＭＳ Ｐゴシック"/>
              </a:rPr>
              <a:t>o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2" descr="PakistanSneReutersGoranTomasevic"/>
          <p:cNvPicPr/>
          <p:nvPr/>
        </p:nvPicPr>
        <p:blipFill>
          <a:blip r:embed="rId5"/>
          <a:stretch/>
        </p:blipFill>
        <p:spPr>
          <a:xfrm>
            <a:off x="3564000" y="1287360"/>
            <a:ext cx="4968720" cy="354672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  <p:pic>
        <p:nvPicPr>
          <p:cNvPr id="116" name="Picture 13" descr="focus_8"/>
          <p:cNvPicPr/>
          <p:nvPr/>
        </p:nvPicPr>
        <p:blipFill>
          <a:blip r:embed="rId6"/>
          <a:stretch/>
        </p:blipFill>
        <p:spPr>
          <a:xfrm>
            <a:off x="2411280" y="1287360"/>
            <a:ext cx="5859720" cy="352584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  <p:sp>
        <p:nvSpPr>
          <p:cNvPr id="117" name="Text Box 35"/>
          <p:cNvSpPr/>
          <p:nvPr/>
        </p:nvSpPr>
        <p:spPr>
          <a:xfrm>
            <a:off x="468360" y="-81000"/>
            <a:ext cx="8064360" cy="581400"/>
          </a:xfrm>
          <a:prstGeom prst="rect">
            <a:avLst/>
          </a:prstGeom>
          <a:solidFill>
            <a:srgbClr val="ffff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Israel / Austria – Ambulance Driv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6"/>
          <p:cNvSpPr/>
          <p:nvPr/>
        </p:nvSpPr>
        <p:spPr>
          <a:xfrm>
            <a:off x="468360" y="-81000"/>
            <a:ext cx="8064360" cy="581400"/>
          </a:xfrm>
          <a:prstGeom prst="rect">
            <a:avLst/>
          </a:prstGeom>
          <a:solidFill>
            <a:srgbClr val="ffff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Denmark – Hotline for Lonely You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7"/>
          <a:stretch/>
        </p:blipFill>
        <p:spPr>
          <a:xfrm>
            <a:off x="1979640" y="784080"/>
            <a:ext cx="5616720" cy="357372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  <p:pic>
        <p:nvPicPr>
          <p:cNvPr id="120" name="Picture 5" descr="URK"/>
          <p:cNvPicPr/>
          <p:nvPr/>
        </p:nvPicPr>
        <p:blipFill>
          <a:blip r:embed="rId8"/>
          <a:stretch/>
        </p:blipFill>
        <p:spPr>
          <a:xfrm>
            <a:off x="1692360" y="420840"/>
            <a:ext cx="5327640" cy="353052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  <p:pic>
        <p:nvPicPr>
          <p:cNvPr id="121" name="Picture 6" descr="04iraq"/>
          <p:cNvPicPr/>
          <p:nvPr/>
        </p:nvPicPr>
        <p:blipFill>
          <a:blip r:embed="rId9"/>
          <a:stretch/>
        </p:blipFill>
        <p:spPr>
          <a:xfrm>
            <a:off x="2411280" y="1071720"/>
            <a:ext cx="5256360" cy="358272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  <p:pic>
        <p:nvPicPr>
          <p:cNvPr id="122" name="Picture 14" descr="_JDA3022"/>
          <p:cNvPicPr/>
          <p:nvPr/>
        </p:nvPicPr>
        <p:blipFill>
          <a:blip r:embed="rId10"/>
          <a:stretch/>
        </p:blipFill>
        <p:spPr>
          <a:xfrm>
            <a:off x="2195640" y="1216080"/>
            <a:ext cx="5400720" cy="360216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  <p:pic>
        <p:nvPicPr>
          <p:cNvPr id="123" name="Picture 15" descr="Rusland"/>
          <p:cNvPicPr/>
          <p:nvPr/>
        </p:nvPicPr>
        <p:blipFill>
          <a:blip r:embed="rId11"/>
          <a:stretch/>
        </p:blipFill>
        <p:spPr>
          <a:xfrm>
            <a:off x="2771640" y="568440"/>
            <a:ext cx="4972320" cy="361944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  <p:sp>
        <p:nvSpPr>
          <p:cNvPr id="124" name="Text Box 16"/>
          <p:cNvSpPr/>
          <p:nvPr/>
        </p:nvSpPr>
        <p:spPr>
          <a:xfrm>
            <a:off x="4643280" y="63360"/>
            <a:ext cx="25210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cc0000"/>
                </a:solidFill>
                <a:latin typeface="Rockwell"/>
                <a:ea typeface="ＭＳ Ｐゴシック"/>
              </a:rPr>
              <a:t>o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4284720" y="927000"/>
            <a:ext cx="1800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cc0000"/>
                </a:solidFill>
                <a:latin typeface="Rockwell"/>
                <a:ea typeface="ＭＳ Ｐゴシック"/>
              </a:rPr>
              <a:t>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4140360" y="1000080"/>
            <a:ext cx="1800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cc0000"/>
                </a:solidFill>
                <a:latin typeface="Rockwell"/>
                <a:ea typeface="ＭＳ Ｐゴシック"/>
              </a:rPr>
              <a:t>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4427640" y="423720"/>
            <a:ext cx="1800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cc0000"/>
                </a:solidFill>
                <a:latin typeface="Rockwell"/>
                <a:ea typeface="ＭＳ Ｐゴシック"/>
              </a:rPr>
              <a:t>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0"/>
          <p:cNvSpPr/>
          <p:nvPr/>
        </p:nvSpPr>
        <p:spPr>
          <a:xfrm>
            <a:off x="3780000" y="568440"/>
            <a:ext cx="1800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cc0000"/>
                </a:solidFill>
                <a:latin typeface="Rockwell"/>
                <a:ea typeface="ＭＳ Ｐゴシック"/>
              </a:rPr>
              <a:t>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4140360" y="1000080"/>
            <a:ext cx="1800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cc0000"/>
                </a:solidFill>
                <a:latin typeface="Rockwell"/>
                <a:ea typeface="ＭＳ Ｐゴシック"/>
              </a:rPr>
              <a:t>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2"/>
          <p:cNvSpPr/>
          <p:nvPr/>
        </p:nvSpPr>
        <p:spPr>
          <a:xfrm>
            <a:off x="3276720" y="-152280"/>
            <a:ext cx="1800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cc0000"/>
                </a:solidFill>
                <a:latin typeface="Rockwell"/>
                <a:ea typeface="ＭＳ Ｐゴシック"/>
              </a:rPr>
              <a:t>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3419640" y="351000"/>
            <a:ext cx="1800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cc0000"/>
                </a:solidFill>
                <a:latin typeface="Rockwell"/>
                <a:ea typeface="ＭＳ Ｐゴシック"/>
              </a:rPr>
              <a:t>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4"/>
          <p:cNvSpPr/>
          <p:nvPr/>
        </p:nvSpPr>
        <p:spPr>
          <a:xfrm>
            <a:off x="4140360" y="1000080"/>
            <a:ext cx="1800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cc0000"/>
                </a:solidFill>
                <a:latin typeface="Rockwell"/>
                <a:ea typeface="ＭＳ Ｐゴシック"/>
              </a:rPr>
              <a:t>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6"/>
          <p:cNvSpPr/>
          <p:nvPr/>
        </p:nvSpPr>
        <p:spPr>
          <a:xfrm>
            <a:off x="468360" y="-81000"/>
            <a:ext cx="8028000" cy="558720"/>
          </a:xfrm>
          <a:prstGeom prst="rect">
            <a:avLst/>
          </a:prstGeom>
          <a:solidFill>
            <a:srgbClr val="ffff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lvl="2" marL="12574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d4d4d"/>
                </a:solidFill>
                <a:latin typeface="Trebuchet MS"/>
                <a:ea typeface="ＭＳ Ｐゴシック"/>
              </a:rPr>
              <a:t>Bam / Pakistan – Earthquakes</a:t>
            </a:r>
            <a:r>
              <a:rPr b="1" lang="en-GB" sz="3600" spc="-1" strike="noStrike">
                <a:solidFill>
                  <a:srgbClr val="4d4d4d"/>
                </a:solidFill>
                <a:latin typeface="Trebuchet MS"/>
                <a:ea typeface="ＭＳ Ｐゴシック"/>
              </a:rPr>
              <a:t>	</a:t>
            </a:r>
            <a:r>
              <a:rPr b="1" lang="en-GB" sz="3600" spc="-1" strike="noStrike">
                <a:solidFill>
                  <a:srgbClr val="4d4d4d"/>
                </a:solidFill>
                <a:latin typeface="Trebuchet MS"/>
                <a:ea typeface="ＭＳ Ｐゴシック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7"/>
          <p:cNvSpPr/>
          <p:nvPr/>
        </p:nvSpPr>
        <p:spPr>
          <a:xfrm>
            <a:off x="468360" y="-81000"/>
            <a:ext cx="8028000" cy="558720"/>
          </a:xfrm>
          <a:prstGeom prst="rect">
            <a:avLst/>
          </a:prstGeom>
          <a:solidFill>
            <a:srgbClr val="ffff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lvl="2" marL="12574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d4d4d"/>
                </a:solidFill>
                <a:latin typeface="Trebuchet MS"/>
                <a:ea typeface="ＭＳ Ｐゴシック"/>
              </a:rPr>
              <a:t>Beslan – School Hostage Crisis</a:t>
            </a:r>
            <a:r>
              <a:rPr b="1" lang="en-GB" sz="3600" spc="-1" strike="noStrike">
                <a:solidFill>
                  <a:srgbClr val="4d4d4d"/>
                </a:solidFill>
                <a:latin typeface="Trebuchet MS"/>
                <a:ea typeface="ＭＳ Ｐゴシック"/>
              </a:rPr>
              <a:t>	</a:t>
            </a:r>
            <a:r>
              <a:rPr b="1" lang="en-GB" sz="3600" spc="-1" strike="noStrike">
                <a:solidFill>
                  <a:srgbClr val="4d4d4d"/>
                </a:solidFill>
                <a:latin typeface="Trebuchet MS"/>
                <a:ea typeface="ＭＳ Ｐゴシック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8"/>
          <p:cNvSpPr/>
          <p:nvPr/>
        </p:nvSpPr>
        <p:spPr>
          <a:xfrm>
            <a:off x="468360" y="-81000"/>
            <a:ext cx="8064360" cy="558720"/>
          </a:xfrm>
          <a:prstGeom prst="rect">
            <a:avLst/>
          </a:prstGeom>
          <a:solidFill>
            <a:srgbClr val="ffff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lvl="2" marL="1257480" indent="-3430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d4d4d"/>
                </a:solidFill>
                <a:latin typeface="Trebuchet MS"/>
                <a:ea typeface="ＭＳ Ｐゴシック"/>
              </a:rPr>
              <a:t>Zimbabwe/Southern Africa – HIV/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9"/>
          <p:cNvSpPr/>
          <p:nvPr/>
        </p:nvSpPr>
        <p:spPr>
          <a:xfrm>
            <a:off x="468360" y="-81000"/>
            <a:ext cx="8064360" cy="581400"/>
          </a:xfrm>
          <a:prstGeom prst="rect">
            <a:avLst/>
          </a:prstGeom>
          <a:solidFill>
            <a:srgbClr val="ffff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Bulgaria - Traffic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0"/>
          <p:cNvSpPr/>
          <p:nvPr/>
        </p:nvSpPr>
        <p:spPr>
          <a:xfrm>
            <a:off x="468360" y="-81000"/>
            <a:ext cx="8064360" cy="581400"/>
          </a:xfrm>
          <a:prstGeom prst="rect">
            <a:avLst/>
          </a:prstGeom>
          <a:solidFill>
            <a:srgbClr val="ffff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Palestine - CABA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1"/>
          <p:cNvSpPr/>
          <p:nvPr/>
        </p:nvSpPr>
        <p:spPr>
          <a:xfrm>
            <a:off x="468360" y="-81000"/>
            <a:ext cx="8064360" cy="581400"/>
          </a:xfrm>
          <a:prstGeom prst="rect">
            <a:avLst/>
          </a:prstGeom>
          <a:solidFill>
            <a:srgbClr val="ffff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Colombia - I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2"/>
          <p:cNvSpPr/>
          <p:nvPr/>
        </p:nvSpPr>
        <p:spPr>
          <a:xfrm>
            <a:off x="468360" y="-81000"/>
            <a:ext cx="8064360" cy="581400"/>
          </a:xfrm>
          <a:prstGeom prst="rect">
            <a:avLst/>
          </a:prstGeom>
          <a:solidFill>
            <a:srgbClr val="ffff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Indonesia / Sri Lanka – Tsuna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3"/>
          <p:cNvSpPr/>
          <p:nvPr/>
        </p:nvSpPr>
        <p:spPr>
          <a:xfrm>
            <a:off x="468360" y="-81000"/>
            <a:ext cx="8064360" cy="581400"/>
          </a:xfrm>
          <a:prstGeom prst="rect">
            <a:avLst/>
          </a:prstGeom>
          <a:solidFill>
            <a:srgbClr val="ffff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yria – Iraqi Refug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5" descr="00014293-INS-Lebanon-005"/>
          <p:cNvPicPr/>
          <p:nvPr/>
        </p:nvPicPr>
        <p:blipFill>
          <a:blip r:embed="rId12"/>
          <a:stretch/>
        </p:blipFill>
        <p:spPr>
          <a:xfrm>
            <a:off x="2484360" y="1143000"/>
            <a:ext cx="4969080" cy="359100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  <p:sp>
        <p:nvSpPr>
          <p:cNvPr id="142" name="Text Box 34"/>
          <p:cNvSpPr/>
          <p:nvPr/>
        </p:nvSpPr>
        <p:spPr>
          <a:xfrm>
            <a:off x="468360" y="-81000"/>
            <a:ext cx="8064360" cy="581400"/>
          </a:xfrm>
          <a:prstGeom prst="rect">
            <a:avLst/>
          </a:prstGeom>
          <a:solidFill>
            <a:srgbClr val="ffff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Lebanon – Armed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map2"/>
          <p:cNvPicPr/>
          <p:nvPr/>
        </p:nvPicPr>
        <p:blipFill>
          <a:blip r:embed="rId13"/>
          <a:stretch/>
        </p:blipFill>
        <p:spPr>
          <a:xfrm>
            <a:off x="-2438280" y="-133200"/>
            <a:ext cx="12725280" cy="72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9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5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1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7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3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9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85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11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7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63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66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92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-10620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makes events critic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1905120"/>
            <a:ext cx="7086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23623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Work in pai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Discuss the following questio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Think of a crisis event in your community that has taken place in the past three yea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What were the characteristics of the even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What factors made it a crisis situat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What factors increased the psychosocial impact of the even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752480" y="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0" y="457200"/>
            <a:ext cx="9067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What increases psychosocial impact of a cris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1905120"/>
            <a:ext cx="7086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23623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Work in groups of three to fou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Read the case stud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Discuss what factors increased the psychosocial impact of the event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10920" y="152280"/>
            <a:ext cx="390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09480" y="1905120"/>
            <a:ext cx="7086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2057400"/>
            <a:ext cx="3505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Characteristics of the ev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Crisis/post-crisis enviro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Individual characterist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Family and community re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3733920" y="2057400"/>
            <a:ext cx="5029200" cy="37720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actors affecting the psychosocial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mpact of crisis ev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 MODUL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09480" y="1905120"/>
            <a:ext cx="7086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actors affecting the psychosocial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mpact of crisis ev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752480"/>
            <a:ext cx="44197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Characteristics of the ev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  <a:ea typeface="Arial"/>
              </a:rPr>
              <a:t>Natural versus man-mad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  <a:ea typeface="Arial"/>
              </a:rPr>
              <a:t>Intentionality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  <a:ea typeface="Arial"/>
              </a:rPr>
              <a:t>Degree of preventabili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  <a:ea typeface="Arial"/>
              </a:rPr>
              <a:t>Scope of impac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  <a:ea typeface="Arial"/>
              </a:rPr>
              <a:t>Suffer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  <a:ea typeface="Arial"/>
              </a:rPr>
              <a:t>Degree of expectedne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  <a:ea typeface="Arial"/>
              </a:rPr>
              <a:t>Duration of the even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562720" y="6248520"/>
            <a:ext cx="3581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800600" y="1752480"/>
            <a:ext cx="41148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Crisis/post-crisis environment</a:t>
            </a:r>
            <a:r>
              <a:rPr b="0" lang="en-GB" sz="21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  <a:ea typeface="Arial"/>
              </a:rPr>
              <a:t>Weath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  <a:ea typeface="Arial"/>
              </a:rPr>
              <a:t>Time of da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  <a:ea typeface="Arial"/>
              </a:rPr>
              <a:t>Accessibility to are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  <a:ea typeface="Arial"/>
              </a:rPr>
              <a:t>Amount of physical destruc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  <a:ea typeface="Arial"/>
              </a:rPr>
              <a:t>Number of death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  <a:ea typeface="Arial"/>
              </a:rPr>
              <a:t>Number of child death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292929"/>
              </a:buClr>
              <a:buFont typeface="Helvetic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292929"/>
              </a:buClr>
              <a:buFont typeface="Helvetic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292929"/>
              </a:buClr>
              <a:buFont typeface="Helvetic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0" y="182880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1:31:13Z</dcterms:created>
  <dc:creator>Office 2004 Test Drive User</dc:creator>
  <dc:description/>
  <dc:language>en-US</dc:language>
  <cp:lastModifiedBy>Paramedia Paramedia</cp:lastModifiedBy>
  <dcterms:modified xsi:type="dcterms:W3CDTF">2009-05-03T10:40:46Z</dcterms:modified>
  <cp:revision>49</cp:revision>
  <dc:subject/>
  <dc:title>PowerPoint Presentation</dc:title>
</cp:coreProperties>
</file>