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32988"/>
</p:presentation>
</file>

<file path=ppt/commentAuthors.xml><?xml version="1.0" encoding="utf-8"?>
<p:cmAuthorLst xmlns:p="http://schemas.openxmlformats.org/presentationml/2006/main">
  <p:cmAuthor id="0" name="Utilisateu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02-19T08:20:05.800000000" idx="1">
    <p:pos x="4365" y="2499"/>
    <p:text>extrait de http://moraletic.iquebec.com/pdf_1-7/texte_kierkegaard.pd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CE7-6D79-4312-8ADD-FB17EC842A0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BC0-7200-41AD-A72C-C942A73B610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hoto: Croix-Rouge australienne (2009, réponses aux incendies de forê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A5F-F520-42EE-AEF0-450BC5BB2E9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C676-4841-422D-8D18-E3A64384F1E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Jakob Dall/Croix-Rouge da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DB9D-D7E7-484C-92E1-D8E997E968C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FA54-913D-4312-BE6F-E3DF625906B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4266-8A8C-4A19-A827-7D12341D676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D1F-7AAF-4537-8727-78824E43ED7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Centre 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9CD-927D-480C-A1EE-63094AB4ADE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88E-2C57-4035-91C9-B8D341A3338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142B-C79E-4EC3-A91D-07C4A595642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E182-3D08-4AAA-934F-C099CB97C434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5BE-9B07-4E1F-8125-68D391245E5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84A7-E8D1-446B-967E-42AB54B7A73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A9C6-E684-4890-813D-048DB43AF7DC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DF19-E569-498C-8814-D9D7A520546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Lars Møller/Croix-Rouge da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70E1-C323-452F-BC6D-46F08501317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hoto: Åsta Ytre/Centre PS (en Géorgie après le conflit en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CDA8-BA73-4FBE-BC33-306B582EE59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AC44-03C4-4439-AA46-E3AD62542C0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29-M5-p62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304920" y="441360"/>
            <a:ext cx="4038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500720" y="457200"/>
            <a:ext cx="456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L’aide psychologique d’urgence et la communication de sout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s valeurs-clés dans la communication de sout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67816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’empathie est la capacité à identifier et à ressentir les émotions de la personne affecté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e respect vous permettra d’écouter sans faire de sup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orsque vous communiquez, gardez à l’esprit le besoin de favoriser l’autonomie de la personne affecté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ssurez-vous de garder une position neutre.</a:t>
            </a: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54900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ment réagir lors d’une cr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oyez constructif et concentrez-vous sur des actions récentes qui peuvent être chang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aites des remarques d’ordre général au lieu de poser des questions ou de donner des ré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Mettez l’accent sur les pensées et les sentiments de la person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onnez un retour d’information dénué de ju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osez des questions ouve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oncentrez-vous sur ce que la personne 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32-M5-p68"/>
          <p:cNvPicPr/>
          <p:nvPr/>
        </p:nvPicPr>
        <p:blipFill>
          <a:blip r:embed="rId2"/>
          <a:stretch/>
        </p:blipFill>
        <p:spPr>
          <a:xfrm>
            <a:off x="457200" y="4114800"/>
            <a:ext cx="549900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a communication non-verba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a communication non-verbale est tout aussi importante que la communication verb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Voici quelques bons consei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aites face à la personne qui vous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doptez une posture ouverte, surtout avec vos 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Gardez une distance appropriée: la proximité reflète de l’intérêt, mais peut également communiquer de l’intimité, de la familiarité, ou de l’agressivi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Établissez un contact visuel fréquent, sans indiscré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oyez particulièrement conscient des différentes pratiques culturelles en relation avec ce compor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yez une apparence calme et décontractée.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Écouter et répond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0880" y="1447920"/>
            <a:ext cx="632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illez par groupes de tro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ossez les rôles suivants: assistant,  bénéficiaire des soins, observ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bénéficiaire des soins partage un problème qu’il rencontre dans son trav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assistant doit mettre en pratique toutes les compétences acquises jusqu’à pré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bservateur doit donner un retour d’information à l’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es compétences de communication personnel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0880" y="14479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Restez dans les mêmes grou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iscutez des questions suivant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rsque vous travaillez comme assistant, de quelles compétences de communication avez-vous besoi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elles sont les valeurs les plus importantes dans les situations où ces compétences sont nécessaire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a conduite éth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0" y="1752480"/>
            <a:ext cx="41148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 soyez pas ble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oyez digne de confiance et faites toujours ce que vous d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’abusez jamais de votre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Respectez le droit de la personne à prendre ses propres dé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’exagérez jamais vos capacités ou vos compé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oyez conscient de vos propres partis-pris et préju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33-M5-p71"/>
          <p:cNvPicPr/>
          <p:nvPr/>
        </p:nvPicPr>
        <p:blipFill>
          <a:blip r:embed="rId2"/>
          <a:stretch/>
        </p:blipFill>
        <p:spPr>
          <a:xfrm>
            <a:off x="228600" y="2008080"/>
            <a:ext cx="4724280" cy="340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es groupes de souti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1714320"/>
            <a:ext cx="8001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 bien-être psychosocial découle souvent des expériences de participation communautaire et de l’effort de coopé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Les personnes qui ont le sentiment d’être intégrées dans un groupe particulier développent un sens d’appartenance et de va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réer un groupe de soutien est une entreprise peu onéreuse et relativement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ppuyez-vous essentiellement sur l’assistance de personnes au niveau communau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éveloppez de l’aisance et de l’efficacité dans le travail avec des groupes de taille diffé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Définissez un groupe cible autour d’un problème qui suscite suffisamment d’intérêt pour assurer une participation significative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imer les groupes de sout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Les facteurs cruciaux dans ce processu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Un bon animateur, qui maîtrise le travail en grou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Des réunions planifiées régulièrement dans un endroit 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Des groupes basés sur les besoins et les souhaits des membres de la communau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capitul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09480" y="205740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Quels sont les quatre éléments de l’aide psychologique d’urgenc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Que signifie  l’expression « communication de soutien »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Que sont les groupes de soutien et comment fonctionnent-il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ide psychologique d’urgence et la communication de sout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L’aide psychologique d’urg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La communication de souti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L’assistance téléphonique et l’animation de groupes de soutien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ide psychologique d’urgence et la communication de souti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L’écoute active est l’élément essentiel de l’aide psychologique d’urg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692360" y="1890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nnaître le point de dép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07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i je veux réussir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accompagner un être vers un but précis,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Je dois le chercher là où il est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 commencer là, justement là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- Søren Kierkegaard, philosophe danois du 19</a:t>
            </a:r>
            <a:r>
              <a:rPr b="0" lang="fr-FR" sz="1400" spc="-1" strike="noStrike" baseline="30000">
                <a:solidFill>
                  <a:srgbClr val="292929"/>
                </a:solidFill>
                <a:latin typeface="Arial"/>
              </a:rPr>
              <a:t>e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siè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63640" y="11592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’écoute a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Travaillez par groupes de deux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Une personne raconte à l’autre une histoire personnelle – pas nécessairement à propos d’une situation de cri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92929"/>
                </a:solidFill>
                <a:latin typeface="Arial"/>
                <a:ea typeface="Arial"/>
              </a:rPr>
              <a:t>L’autre personne écoute activement en posant des questions sur des points à expliciter et à résumer.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Quand l’aide psychologique d’urgence est-elle nécessair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1008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atastrop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remiers sec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Visites à domic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ssistance téléphonique et sur interne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32-M5-p67"/>
          <p:cNvPicPr/>
          <p:nvPr/>
        </p:nvPicPr>
        <p:blipFill>
          <a:blip r:embed="rId2"/>
          <a:stretch/>
        </p:blipFill>
        <p:spPr>
          <a:xfrm>
            <a:off x="228600" y="2163600"/>
            <a:ext cx="5041800" cy="378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0-M5-p63"/>
          <p:cNvPicPr/>
          <p:nvPr/>
        </p:nvPicPr>
        <p:blipFill>
          <a:blip r:embed="rId1"/>
          <a:stretch/>
        </p:blipFill>
        <p:spPr>
          <a:xfrm>
            <a:off x="0" y="1447920"/>
            <a:ext cx="489744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1405_pp_trainers_A1B2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’aide psychologique d’u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L’écoute active – l’élément cl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Rester proche – la proximité est une marque d’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Accepter les sentiments - accepter l’interprétation de l’événement par la personne affect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Apporter des soins généraux et une aide pratique – c’est également un moyen de démontrer de l’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405_pp_trainers_A1B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éactions et réponses psycholog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odule5_slide8"/>
          <p:cNvPicPr/>
          <p:nvPr/>
        </p:nvPicPr>
        <p:blipFill>
          <a:blip r:embed="rId3"/>
          <a:stretch/>
        </p:blipFill>
        <p:spPr>
          <a:xfrm>
            <a:off x="533520" y="1751040"/>
            <a:ext cx="67737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ournir une aide psychologique d’u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57120" y="1500120"/>
            <a:ext cx="8501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Se répartir par groupes de 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Lire le scén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Se mettre d’accord sur les rôl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Cecilia qui a besoin d’aide psychologique d’u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L’assistant soutient la personne qui reçoit les 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  <a:ea typeface="Arial"/>
              </a:rPr>
              <a:t>L’observateur note les éléments de l’aide psychologique d’urgence lors de l’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Susan Bruun</cp:lastModifiedBy>
  <dcterms:modified xsi:type="dcterms:W3CDTF">2010-05-28T11:53:28Z</dcterms:modified>
  <cp:revision>114</cp:revision>
  <dc:subject/>
  <dc:title>PowerPoint Presentation</dc:title>
</cp:coreProperties>
</file>