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CF1A-416D-4C82-8345-EAED9A6394D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C289-F6B5-444B-9FF7-45E75C780ED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3E56-806D-4516-A189-C63EE965837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546E-DE5F-4CEB-BE14-B157DB72A201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xer les rè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1A39-9F96-48AF-8C0A-590EF3D5EA9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146B-32C6-4CB1-8E35-55B74CA521C6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ôturer l’ate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6C94-ADCB-4E62-9C73-92FBB3958F8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 · ANNEX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90720" y="213336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Ouvrir et clotûrer un atel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ANNEX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90720" y="213336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 person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ntrée en mat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L’apprentissage du soutien social implique une assimilation des processus psychologiques et concerne les sentiments personnels et les expé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066680" y="609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ANNEX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e1c11"/>
                </a:solidFill>
                <a:latin typeface="Arial"/>
                <a:ea typeface="Arial"/>
              </a:rPr>
              <a:t>Créer un environnement de confiance : ce qui est dit dans la pièce est confidentiel et ne sort pas de la piè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e1c11"/>
                </a:solidFill>
                <a:latin typeface="Arial"/>
                <a:ea typeface="Arial"/>
              </a:rPr>
              <a:t>Tout le monde à le droit de parler mais ce n’est pas une oblig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e1c11"/>
                </a:solidFill>
                <a:latin typeface="Arial"/>
                <a:ea typeface="Arial"/>
              </a:rPr>
              <a:t>Toutes les contributions doivent être appréc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e1c11"/>
                </a:solidFill>
                <a:latin typeface="Arial"/>
                <a:ea typeface="Arial"/>
              </a:rPr>
              <a:t>Rien n’est juste ni f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e1c11"/>
                </a:solidFill>
                <a:latin typeface="Arial"/>
                <a:ea typeface="Arial"/>
              </a:rPr>
              <a:t>Parlez des règles concernant les échanges dans l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e1c11"/>
                </a:solidFill>
                <a:latin typeface="Arial"/>
                <a:ea typeface="Arial"/>
              </a:rPr>
              <a:t>Parlez des at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e1c11"/>
                </a:solidFill>
                <a:latin typeface="Arial"/>
                <a:ea typeface="Arial"/>
              </a:rPr>
              <a:t>Présentez et abordez l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1371600" y="8380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ixer les rè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ANNEX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Les participants doivent sentir que la journée touche à sa f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aites un résumé du contenu de la jour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Demandez s’il y a des 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aites un récapitulatif en plénière à la fin de la journ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arcourez le programme de la prochaine jour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1143000" y="762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Finir la jour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ANNEX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renez le temps de clôturer l’ate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Évaluez. Par écrit ou oralement, de façon individuelle ou en pléniè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i un questionnaire et un document de retour d’information sont utilisés en plénière, distribuez le questionnaire en premi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1220760" y="709560"/>
            <a:ext cx="29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lôturer l’ate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405_pp_trainers_A1B2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752480" y="15228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Arial"/>
              </a:rPr>
              <a:t>SOUTIEN PSYCHOSOCIAL FONDÉ SUR LA COMMUNAUTÉ · ANNEX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90720" y="182844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L’animateur peut faire un discours et distribuer les certific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ffectuez une dernière activité ensemble (chanter par exemp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Laissez le temps à chacun de dire au re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1405_pp_trainers_A1B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914400" y="82224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ire au re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Geoffroy Destrebecq</cp:lastModifiedBy>
  <dcterms:modified xsi:type="dcterms:W3CDTF">2010-03-01T19:37:50Z</dcterms:modified>
  <cp:revision>45</cp:revision>
  <dc:subject/>
  <dc:title>PowerPoint Presentation</dc:title>
</cp:coreProperties>
</file>